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9B286A9-617A-4A03-AA20-91ACFF5AE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5572EEA-2B4B-4692-A15D-324CC3197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2E0AF99-A74B-4107-8FCE-5F8A5CEF8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EDA27FF-7203-4543-A10D-9874DF5D8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E7982D-FA73-41B6-8ADB-A7CE23337F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1FD65-50FA-4A5C-9B84-7B715B44D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89201-5FF4-4FF3-A5BC-87A08A2BF0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62636-7EED-4A8D-9E71-96AB57236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6C27A-4010-4861-BEF0-5101526CE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0C381-40D6-4090-A1F2-2D02F5CAA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0E2CD-2CE7-429C-B66A-9A7C9A947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BD1FC75-F16B-4040-943D-B1AD85979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EFB81-10C3-48DA-872C-44EB2B054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166E4-B05E-4BD0-9F41-55562733E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7D1A1-1E36-4D61-A8FC-56D4958E3D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7AE1D9-2F09-4798-8B5E-C8AD6CB509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8C0F03-8CF7-416E-B960-1AC62683BA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423C0C4-B81D-4570-9E03-180C3931F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E783192-E9CA-4840-A7E7-AC05AD537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45D0042-AD42-4FCD-B761-16825B245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B9492E2-E7F6-4104-8A75-8BED58E59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A2F4CC3-0130-46A3-9764-A8BE35756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957D05B-71A4-4A51-A6AB-283D5EDE9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4CB7188-8481-45C9-89CF-2A3E178AA4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02001-3D24-492B-BA27-96BBB11D444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05646-806A-4D97-ABDE-9D03AF854A2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9.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История Австрии</a:t>
            </a:r>
            <a:endParaRPr b="1" lang="en-US" sz="4400" spc="-1" strike="noStrike">
              <a:solidFill>
                <a:srgbClr val="e5e5ff"/>
              </a:solidFill>
              <a:latin typeface="Garamond"/>
            </a:endParaRPr>
          </a:p>
        </p:txBody>
      </p:sp>
      <p:pic>
        <p:nvPicPr>
          <p:cNvPr id="100" name="" descr=""/>
          <p:cNvPicPr/>
          <p:nvPr/>
        </p:nvPicPr>
        <p:blipFill>
          <a:blip r:embed="rId1"/>
          <a:stretch/>
        </p:blipFill>
        <p:spPr>
          <a:xfrm>
            <a:off x="1187280" y="1557360"/>
            <a:ext cx="3429000" cy="2185920"/>
          </a:xfrm>
          <a:prstGeom prst="rect">
            <a:avLst/>
          </a:prstGeom>
          <a:ln w="0">
            <a:noFill/>
          </a:ln>
        </p:spPr>
      </p:pic>
      <p:pic>
        <p:nvPicPr>
          <p:cNvPr id="101" name="" descr=""/>
          <p:cNvPicPr/>
          <p:nvPr/>
        </p:nvPicPr>
        <p:blipFill>
          <a:blip r:embed="rId2"/>
          <a:stretch/>
        </p:blipFill>
        <p:spPr>
          <a:xfrm>
            <a:off x="5580000" y="1557360"/>
            <a:ext cx="1751040" cy="2185920"/>
          </a:xfrm>
          <a:prstGeom prst="rect">
            <a:avLst/>
          </a:prstGeom>
          <a:ln w="0">
            <a:noFill/>
          </a:ln>
        </p:spPr>
      </p:pic>
      <p:pic>
        <p:nvPicPr>
          <p:cNvPr id="102" name="" descr=""/>
          <p:cNvPicPr/>
          <p:nvPr/>
        </p:nvPicPr>
        <p:blipFill>
          <a:blip r:embed="rId3"/>
          <a:stretch/>
        </p:blipFill>
        <p:spPr>
          <a:xfrm>
            <a:off x="1619280" y="3933720"/>
            <a:ext cx="1897200" cy="2187720"/>
          </a:xfrm>
          <a:prstGeom prst="rect">
            <a:avLst/>
          </a:prstGeom>
          <a:ln w="0">
            <a:noFill/>
          </a:ln>
        </p:spPr>
      </p:pic>
      <p:pic>
        <p:nvPicPr>
          <p:cNvPr id="103" name="" descr=""/>
          <p:cNvPicPr/>
          <p:nvPr/>
        </p:nvPicPr>
        <p:blipFill>
          <a:blip r:embed="rId4"/>
          <a:stretch/>
        </p:blipFill>
        <p:spPr>
          <a:xfrm>
            <a:off x="4572000" y="3933720"/>
            <a:ext cx="3286080" cy="2187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Подъем и спад протестантизма </a:t>
            </a:r>
            <a:endParaRPr b="1" lang="en-US" sz="4400" spc="-1" strike="noStrike">
              <a:solidFill>
                <a:srgbClr val="e5e5ff"/>
              </a:solidFill>
              <a:latin typeface="Garamond"/>
            </a:endParaRPr>
          </a:p>
        </p:txBody>
      </p:sp>
      <p:sp>
        <p:nvSpPr>
          <p:cNvPr id="129" name="PlaceHolder 2"/>
          <p:cNvSpPr>
            <a:spLocks noGrp="1"/>
          </p:cNvSpPr>
          <p:nvPr>
            <p:ph/>
          </p:nvPr>
        </p:nvSpPr>
        <p:spPr>
          <a:xfrm>
            <a:off x="250920" y="1197000"/>
            <a:ext cx="8642160" cy="4525920"/>
          </a:xfrm>
          <a:prstGeom prst="rect">
            <a:avLst/>
          </a:prstGeom>
          <a:noFill/>
          <a:ln w="0">
            <a:noFill/>
          </a:ln>
        </p:spPr>
        <p:txBody>
          <a:bodyPr lIns="90000" rIns="90000" tIns="46800" bIns="46800" anchor="t">
            <a:normAutofit fontScale="88000"/>
          </a:bodyPr>
          <a:p>
            <a:pPr marL="301680" indent="-3016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Центром распространения реформированного христианства на Дунае стали области проживания венгров. Многие помещики и крестьяне в Венгрии приняли кальвинизм и лютеранство. Учение Лютера привлекало многих немецкоязычных горожан, в Трансильвании широкие симпатии вызвало течение унитариев. В восточной части собственно венгерских земель преобладал кальвинизм, а среди части словаков и немцев получило распространение лютеранство. В той части Венгрии, которая попала под контроль Габсбургов, протестантизм натолкнулся на значительное сопротивление со стороны католиков. Двор в Вене, высоко ценивший значение католичества для поддержания абсолютной власти короля, провозгласил его официальной религией Венгрии. Протестанты были обязаны уплачивать деньги на поддержание католических религиозных институтов и в течение долгого времени не допускались на государственные посты.</a:t>
            </a:r>
            <a:br>
              <a:rPr sz="1400"/>
            </a:br>
            <a:br>
              <a:rPr sz="1400"/>
            </a:br>
            <a:r>
              <a:rPr b="0" lang="ru-RU" sz="1400" spc="-1" strike="noStrike">
                <a:solidFill>
                  <a:srgbClr val="ffffff"/>
                </a:solidFill>
                <a:latin typeface="Times New Roman"/>
              </a:rPr>
              <a:t>Реформация неожиданно быстро распространилась в самой Австрии. Только что изобретенное книгопечатание позволило обоим противоборствующим религиозным лагерям издавать и распространять книги и брошюры. Князья и священники часто вели борьбу за власть под религиозными знаменами. Большое число верующих в Австрии покинули католическую церковь; идеи Реформации провозглашались в соборе св. Стефана в Вене и даже в семейной часовне правящей династии. Анабаптистские группы (например, меннониты) распространились затем в Тироле и Моравии. К середине 16 в. явное большинство населения Австрии, казалось, приняло протестантизм в той или иной форме. </a:t>
            </a:r>
            <a:br>
              <a:rPr sz="1400"/>
            </a:br>
            <a:br>
              <a:rPr sz="1400"/>
            </a:br>
            <a:r>
              <a:rPr b="0" lang="ru-RU" sz="1400" spc="-1" strike="noStrike">
                <a:solidFill>
                  <a:srgbClr val="ffffff"/>
                </a:solidFill>
                <a:latin typeface="Times New Roman"/>
              </a:rPr>
              <a:t>Однако существовало три могущественных фактора, которые не только сдерживали распространение Реформации, но и способствовали возвращению большой части неофитов в лоно Римско-католической церкви: внутрицерковная реформа, провозглашенная Тридентским собором; Общество Иисуса (орден иезуитов), члены которого в качестве духовников, учителей и проповедников сосредоточили свою деятельность на обращение в эту веру семей крупных землевладельцев, правильно рассчитав, что их крестьяне затем последуют за верой своих господ; и физическое принуждение, осуществлявшееся венским двором. Конфликты вылились в Тридцатилетнюю войну (1618–1648), которая началась в Чехии, где глубоко укоренился протестантизм. В 1606–1609 Рудольф II рядом соглашений гарантировал чешским протестантам свободу вероисповедания. Но когда императором стал Фердинанд II (правил в 1619–1637), протестанты в Чехии ощутили угрозу своим религиозным свободам и гражданским правам. Ревностный католик и авторитарный правитель Фердинанд II, яркий представитель Контрреформации, отдал распоряжение о подавлении протестантизма в самой Австрии.</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Тридцатилетняя война </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В 1619 чешский сейм отказался признать императором Фердинанда и избрал королем курфюрста Фридриха V, пфальцграфа Рейнского. Этот демарш привел к началу Тридцатилетней войны. Повстанцев, расходившихся по всем важнейшим вопросам, связывала только ненависть к Габсбургам. С помощью наемников из Германии армия Габсбургов в 1620 наголову разбила чешских повстанцев в битве при Белой Горе под Прагой. Чешская корона была раз и навсегда закреплена за домом Габсбургов, сейм разогнан, а католичество объявлено единственной законной верой. </a:t>
            </a:r>
            <a:br>
              <a:rPr sz="1400"/>
            </a:br>
            <a:br>
              <a:rPr sz="1400"/>
            </a:br>
            <a:r>
              <a:rPr b="0" lang="ru-RU" sz="1400" spc="-1" strike="noStrike">
                <a:solidFill>
                  <a:srgbClr val="ffffff"/>
                </a:solidFill>
                <a:latin typeface="Times New Roman"/>
              </a:rPr>
              <a:t>Поместья чешских протестантских аристократов, занимавшие почти половину территории Чехии, были поделены между младшими сыновьями католического дворянства Европы, в основном немецкого происхождения. Вплоть до распада Габсбургской монархии в 1918 чешская аристократия говорила преимущественно по-немецки и была предана правящей династии. </a:t>
            </a:r>
            <a:br>
              <a:rPr sz="1400"/>
            </a:br>
            <a:br>
              <a:rPr sz="1400"/>
            </a:br>
            <a:r>
              <a:rPr b="0" lang="ru-RU" sz="1400" spc="-1" strike="noStrike">
                <a:solidFill>
                  <a:srgbClr val="ffffff"/>
                </a:solidFill>
                <a:latin typeface="Times New Roman"/>
              </a:rPr>
              <a:t>В ходе Тридцатилетней войны население Габсбургской империи понесло огромные потери. Конец бойне положил Вестфальский мир (1648), согласно которому Священная Римская империя, включавшая Германию и Италию, фактически прекращала свое существование, и многие князья, владевшие ее землями, смогли осуществить свою давнюю мечту о независимости от власти императора. Однако Габсбурги все еще сохраняли императорскую корону и влияние на государственные дела Германии. </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Победа над турками </a:t>
            </a:r>
            <a:endParaRPr b="1" lang="en-US" sz="4400" spc="-1" strike="noStrike">
              <a:solidFill>
                <a:srgbClr val="e5e5ff"/>
              </a:solidFill>
              <a:latin typeface="Garamond"/>
            </a:endParaRPr>
          </a:p>
        </p:txBody>
      </p:sp>
      <p:sp>
        <p:nvSpPr>
          <p:cNvPr id="133" name="PlaceHolder 2"/>
          <p:cNvSpPr>
            <a:spLocks noGrp="1"/>
          </p:cNvSpPr>
          <p:nvPr>
            <p:ph/>
          </p:nvPr>
        </p:nvSpPr>
        <p:spPr>
          <a:xfrm>
            <a:off x="0" y="1267920"/>
            <a:ext cx="8964720" cy="4784760"/>
          </a:xfrm>
          <a:prstGeom prst="rect">
            <a:avLst/>
          </a:prstGeom>
          <a:noFill/>
          <a:ln w="0">
            <a:noFill/>
          </a:ln>
        </p:spPr>
        <p:txBody>
          <a:bodyPr lIns="90000" rIns="90000" tIns="46800" bIns="46800" anchor="t">
            <a:normAutofit fontScale="93000"/>
          </a:bodyPr>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Во второй половине 17 в. армии османов возобновили натиск на Европу. Австрийцы повели борьбу с турками за контроль над нижним течением рек Дунай и Сава. В 1683 огромная турецкая армия, воспользовавшись восстанием в Венгрии, вновь осаждала Вену в течение двух месяцев, и снова нанесла огромный ущерб ее пригородам. Город переполнился беженцами, артиллерийский обстрел нанес ущерб собору св. Стефана и другим архитектурным памятникам.</a:t>
            </a:r>
            <a:br>
              <a:rPr sz="1400"/>
            </a:br>
            <a:r>
              <a:rPr b="0" lang="ru-RU" sz="1400" spc="-1" strike="noStrike">
                <a:solidFill>
                  <a:srgbClr val="ffffff"/>
                </a:solidFill>
                <a:latin typeface="Times New Roman"/>
              </a:rPr>
              <a:t>Осажденный город был спасен польско-немецкой армией под командованием польского короля Яна Собеского. 12 сентября 1683, после ожесточенной перестрелки, турки отошли и больше уже никогда не возвращались к стенам Вены.</a:t>
            </a:r>
            <a:br>
              <a:rPr sz="1400"/>
            </a:br>
            <a:r>
              <a:rPr b="0" lang="ru-RU" sz="1400" spc="-1" strike="noStrike">
                <a:solidFill>
                  <a:srgbClr val="ffffff"/>
                </a:solidFill>
                <a:latin typeface="Times New Roman"/>
              </a:rPr>
              <a:t>С этого момента турки стали постепенно сдавать свои позиции, а Габсбурги извлекали из своих побед все новые выгоды. Когда в 1687 большая часть Венгрии со столицей Будой была освобождена от турецкого владычества, венгерский сейм в знак благодарности признал наследственное право мужской линии Габсбургов на венгерскую корону. Однако при этом была оговорено, что перед вступлением на престол новый король должен был подтверждать все «традиции, привилегии и прерогативы» венгерской нации. Война против турок продолжалась. Австрийские войска отвоевали почти всю Венгрию, Хорватию, Трансильванию и большую часть Словении, что было официально закреплена Карловицком миром (1699). Затем Габсбурги обратили свои взоры на Балканы, и в 1717 австрийский полководец принц Евгений Савойский захватил Белград и вторгся в Сербию. Султан вынужден был уступить Габсбургам небольшой сербский район вокруг Белграда и еще ряд небольших территорий. Через 20 лет балканская территория была вновь захвачена турками; Дунай и Сава стали границей между двумя великими державами. </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Венгрия, оказавшаяся под властью Вены, была опустошена, ее население уменьшилось. Обширные участки земли были переданы дворянам, лояльным Габсбургам. Венгерские крестьяне переместились на свободные земли, а приглашенные короной иностранные поселенцы – сербы, румыны и прежде всего немецкие католики – заселили южные районы страны. По оценкам, в 1720 венгры составляли менее 45% населения Венгрии, и в 18 в. их доля продолжала сокращаться. Трансильвания сохранила особый политический статус при управлении из Вены. </a:t>
            </a:r>
            <a:br>
              <a:rPr sz="1400"/>
            </a:br>
            <a:r>
              <a:rPr b="0" lang="ru-RU" sz="1400" spc="-1" strike="noStrike">
                <a:solidFill>
                  <a:srgbClr val="ffffff"/>
                </a:solidFill>
                <a:latin typeface="Times New Roman"/>
              </a:rPr>
              <a:t>В периоды мятежей и раздоров 16 и 17 вв. не раз казалось, что многонациональное государство Габсбургов стоит на пороге неминуемого краха. Тем не менее венский двор продолжал поощрять развитие образования и искусства. Важными вехами в интеллектуальной жизни стало основание университетов в Граце (1585), Зальцбурге (1623), Будапеште (1635) и Инсбруке (1677).</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Расцвет Вены </a:t>
            </a:r>
            <a:endParaRPr b="1" lang="en-US" sz="4400" spc="-1" strike="noStrike">
              <a:solidFill>
                <a:srgbClr val="e5e5ff"/>
              </a:solidFill>
              <a:latin typeface="Garamond"/>
            </a:endParaRPr>
          </a:p>
        </p:txBody>
      </p:sp>
      <p:sp>
        <p:nvSpPr>
          <p:cNvPr id="135" name="PlaceHolder 2"/>
          <p:cNvSpPr>
            <a:spLocks noGrp="1"/>
          </p:cNvSpPr>
          <p:nvPr>
            <p:ph/>
          </p:nvPr>
        </p:nvSpPr>
        <p:spPr>
          <a:xfrm>
            <a:off x="-181080" y="1052280"/>
            <a:ext cx="5183280" cy="5073480"/>
          </a:xfrm>
          <a:prstGeom prst="rect">
            <a:avLst/>
          </a:prstGeom>
          <a:noFill/>
          <a:ln w="0">
            <a:noFill/>
          </a:ln>
        </p:spPr>
        <p:txBody>
          <a:bodyPr lIns="90000" rIns="90000" tIns="46800" bIns="46800" anchor="t">
            <a:normAutofit fontScale="92000"/>
          </a:bodyPr>
          <a:p>
            <a:pPr marL="315360" indent="-3153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осле того как исчезло ощущение турецкой угрозы, в городах империи Габсбургов началось интенсивное строительство. Мастера из Италии обучали местных проектировщиков и строителей церквей и дворцов. В Праге, Зальцбурге и особенно в Вене были воздвигнуты здания в стиле барокко – нарядные, изящные, с богатой внешней и внутренней отделкой. Пышно декорированные фасады, широкие лестницы и роскошные сады стали характерными чертами городских резиденций австрийской аристократии. Среди них выделялся великолепный дворец Бельведер с парком, построенный принцем Евгением Савойским. </a:t>
            </a:r>
            <a:br>
              <a:rPr sz="1400"/>
            </a:br>
            <a:r>
              <a:rPr b="0" lang="ru-RU" sz="1400" spc="-1" strike="noStrike">
                <a:solidFill>
                  <a:srgbClr val="ffffff"/>
                </a:solidFill>
                <a:latin typeface="Times New Roman"/>
              </a:rPr>
              <a:t>Древняя резиденция двора в Вене, Хофбург, была расширена и украшена. Канцелярия двора, огромная церковь Карлскирхе, строившаяся 20 лет, и имперский летний дворец и парк в Шёнбрунне – лишь наиболее яркие постройки в городе, который блистал своим архитектурным великолепием. На всей территории монархии были восстановлены церкви и монастыри, поврежденные или разрушенные во время войны. Бенедиктинский монастырь в Мельке, расположенный на скале над Дунаем, – типичный образец барокко в сельской Австрии и символ торжества Контрреформации. </a:t>
            </a:r>
            <a:br>
              <a:rPr sz="1400"/>
            </a:br>
            <a:r>
              <a:rPr b="0" lang="ru-RU" sz="1400" spc="-1" strike="noStrike">
                <a:solidFill>
                  <a:srgbClr val="ffffff"/>
                </a:solidFill>
                <a:latin typeface="Times New Roman"/>
              </a:rPr>
              <a:t>Вена, ставшая наконец архиепископством, была центром католической Германии и столицей державы Габсбургов. В город стекались люди искусства и торговцы со всей Австрии, из Чехии и Венгрии, из Испании и Нидерландов, из Италии и Южной Германии. </a:t>
            </a:r>
            <a:br>
              <a:rPr sz="1400"/>
            </a:br>
            <a:r>
              <a:rPr b="0" lang="ru-RU" sz="1400" spc="-1" strike="noStrike">
                <a:solidFill>
                  <a:srgbClr val="ffffff"/>
                </a:solidFill>
                <a:latin typeface="Times New Roman"/>
              </a:rPr>
              <a:t>Двор и аристократия поощряли развитие театра, изящных искусств и музыки. Наряду с популярными театральными представлениями процветала опера в итальянском стиле. В этот период были заложены основы того, что сделало резиденцию Габсбургов музыкальной столицей Европы. </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p:txBody>
      </p:sp>
      <p:pic>
        <p:nvPicPr>
          <p:cNvPr id="136" name="" descr=""/>
          <p:cNvPicPr/>
          <p:nvPr/>
        </p:nvPicPr>
        <p:blipFill>
          <a:blip r:embed="rId1"/>
          <a:stretch/>
        </p:blipFill>
        <p:spPr>
          <a:xfrm>
            <a:off x="5435640" y="1125360"/>
            <a:ext cx="3333600" cy="2506680"/>
          </a:xfrm>
          <a:prstGeom prst="rect">
            <a:avLst/>
          </a:prstGeom>
          <a:ln w="0">
            <a:noFill/>
          </a:ln>
        </p:spPr>
      </p:pic>
      <p:pic>
        <p:nvPicPr>
          <p:cNvPr id="137" name="" descr=""/>
          <p:cNvPicPr/>
          <p:nvPr/>
        </p:nvPicPr>
        <p:blipFill>
          <a:blip r:embed="rId2"/>
          <a:stretch/>
        </p:blipFill>
        <p:spPr>
          <a:xfrm>
            <a:off x="5580000" y="4005360"/>
            <a:ext cx="3024360" cy="2421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Австрия в 18 веке </a:t>
            </a:r>
            <a:endParaRPr b="1" lang="en-US" sz="4400" spc="-1" strike="noStrike">
              <a:solidFill>
                <a:srgbClr val="e5e5ff"/>
              </a:solidFill>
              <a:latin typeface="Garamond"/>
            </a:endParaRPr>
          </a:p>
        </p:txBody>
      </p:sp>
      <p:sp>
        <p:nvSpPr>
          <p:cNvPr id="139" name="PlaceHolder 2"/>
          <p:cNvSpPr>
            <a:spLocks noGrp="1"/>
          </p:cNvSpPr>
          <p:nvPr>
            <p:ph/>
          </p:nvPr>
        </p:nvSpPr>
        <p:spPr>
          <a:xfrm>
            <a:off x="-252720" y="981000"/>
            <a:ext cx="6337080" cy="4525920"/>
          </a:xfrm>
          <a:prstGeom prst="rect">
            <a:avLst/>
          </a:prstGeom>
          <a:noFill/>
          <a:ln w="0">
            <a:noFill/>
          </a:ln>
        </p:spPr>
        <p:txBody>
          <a:bodyPr lIns="90000" rIns="90000" tIns="46800" bIns="46800" anchor="t">
            <a:normAutofit fontScale="86000"/>
          </a:bodyPr>
          <a:p>
            <a:pPr marL="294840" indent="-2948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На протяжении 1700-х годов Австрия пережила суровые военные испытания, добилась новых вершин могущества и престижа и достигла значительных успехов в области культуры. Вначале перспективы для развития представлялись отнюдь не блестящими. Удача отвернулась от императора Карла VI (правил в 1711–1740). Не имея наследников мужского пола, он опасался, что многонациональное государство после его смерти погрузится во внутренние конфликты или будет расчленено зарубежными державами. Чтобы избежать этого, двор вступил в переговоры с земельными сеймами и иностранными государствами с целью добиться признания наследницей престола дочери Карла, Марии Терезии. </a:t>
            </a:r>
            <a:br>
              <a:rPr sz="1400"/>
            </a:br>
            <a:r>
              <a:rPr b="0" lang="ru-RU" sz="1400" spc="-1" strike="noStrike">
                <a:solidFill>
                  <a:srgbClr val="ffffff"/>
                </a:solidFill>
                <a:latin typeface="Times New Roman"/>
              </a:rPr>
              <a:t>Этим усилиям вначале сопутствовал успех. Официальный документ, известный под названием Прагматической санкции 1713, предусматривал, что все владения Габсбургов должны будут оставаться неделимыми на все времена и передаваться по старшинству. Однако при утверждении этого решения сеймы Чехии и венгерских земель дали понять, что если династия Габсбургов угаснет, то они смогут избрать себе другой правящий дом. </a:t>
            </a:r>
            <a:endParaRPr b="0" lang="en-US" sz="1400" spc="-1" strike="noStrike">
              <a:solidFill>
                <a:srgbClr val="ffffff"/>
              </a:solidFill>
              <a:latin typeface="Garamond"/>
            </a:endParaRPr>
          </a:p>
          <a:p>
            <a:pPr marL="294840" indent="-2948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В соответствии с Прагматической санкцией 1713, Мария Терезия взошла на австрийский престол (1740). Тяжелое бремя ответственности легло на плечи 23-летней императрицы. Король Фридрих II Прусский немедленно предъявил претензии на большую часть процветающей провинции Силезии, входившей в Чешское королевство. </a:t>
            </a:r>
            <a:br>
              <a:rPr sz="1400"/>
            </a:br>
            <a:r>
              <a:rPr b="0" lang="ru-RU" sz="1400" spc="-1" strike="noStrike">
                <a:solidFill>
                  <a:srgbClr val="ffffff"/>
                </a:solidFill>
                <a:latin typeface="Times New Roman"/>
              </a:rPr>
              <a:t>Прусский монарх не признал права Марии Терезии на наследство Карла VI и заявил о намерении освободить от католической Австрии половину силезского населения, которая исповедовала протестантизм. Король Пруссии напал на Силезию без какого-либо формального повода или объявления войны, что противоречило принятым международными нормам. Так началась продолжительная борьба между Пруссией и Австрией за господство в Центральной Европе, которая закончилась окончательным военным разгромом Австрии в 1866. В атаке на владения Габсбургов приняли участие Франция и ряд небольших немецких княжеств, стремившихся расширить свои владения. </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p:txBody>
      </p:sp>
      <p:pic>
        <p:nvPicPr>
          <p:cNvPr id="140" name="" descr=""/>
          <p:cNvPicPr/>
          <p:nvPr/>
        </p:nvPicPr>
        <p:blipFill>
          <a:blip r:embed="rId1"/>
          <a:stretch/>
        </p:blipFill>
        <p:spPr>
          <a:xfrm>
            <a:off x="6012000" y="1341360"/>
            <a:ext cx="293832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24000" y="0"/>
            <a:ext cx="9468000" cy="7966080"/>
          </a:xfrm>
          <a:prstGeom prst="rect">
            <a:avLst/>
          </a:prstGeom>
          <a:noFill/>
          <a:ln w="0">
            <a:noFill/>
          </a:ln>
        </p:spPr>
        <p:txBody>
          <a:bodyPr lIns="90000" rIns="90000" tIns="46800" bIns="46800" anchor="t">
            <a:normAutofit/>
          </a:bodyPr>
          <a:p>
            <a:pPr marL="343080" indent="-343080">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Неподготовленная к войне и хуже вооруженная Австрия легко уступила стремительному натиску врага. Временами стало казаться, что монархия распадается. Упрямая и смелая, Мария Терезия сделала решительный шаг, обратившись к своим венгерским подданным за помощью. В ответ на обещания реальных уступок венгерские магнаты продемонстрировали свою лояльность, но их помощь оказалась недостаточной. В 1742 большая часть Силезии отошла к Пруссии. Несмотря на неоднократные попытки Австрии вернуть утерянную провинцию, Пруссия владела этой землей вплоть до окончания Второй мировой войны. Стремясь улучшить международное положение страны, императрица заключала династические браки своих детей (тех из 16, кто достиг зрелости). Так, Мария Антуанетта стала невестой наследника престола Франции, будущего короля Людовика XVI. </a:t>
            </a:r>
            <a:br>
              <a:rPr sz="1300"/>
            </a:br>
            <a:r>
              <a:rPr b="0" lang="ru-RU" sz="1300" spc="-1" strike="noStrike">
                <a:solidFill>
                  <a:srgbClr val="ffffff"/>
                </a:solidFill>
                <a:latin typeface="Times New Roman"/>
              </a:rPr>
              <a:t>Благодаря бурным политическим событиям в Европе Австрия сделала ряд территориальных приобретений. В начале столетия были присоединены Испанские Нидерланды (нынешняя Бельгия), которые оставались своего рода колонией вплоть до 1797. Были приобретены богатые провинции в Италии: Тоскана, большая часть Ломбардии, Неаполь, Парма и Сардиния (последние три удерживались Австрией недолго). Во многом вопреки моральным убеждениям Марии Терезии, хотя и в соответствии с желаниями ее сына Иосифа, Австрия примкнула к России и Пруссии в первом разделе Польши (1772) и получила княжества Освенцимское и Заторское, южную часть Краковского и Сандомирского воеводств, Русское (без Холмской земли) и Белзское воеводства. На этой территории проживало около миллиона человек, имелись плодородные земли и соляные шахты. 23 года спустя под властью Австрии оказалась еще одна часть Польши, с ее древней столицей Краковом. Были выдвинуты также притязания на северную часть Молдовского княжества к юго-востоку от Галиции. Этот район контролировался турками; в 1775 он был включен в состав государства Габсбургов под названием Буковина. </a:t>
            </a:r>
            <a:br>
              <a:rPr sz="1300"/>
            </a:br>
            <a:r>
              <a:rPr b="0" lang="ru-RU" sz="1300" spc="-1" strike="noStrike">
                <a:solidFill>
                  <a:srgbClr val="ffffff"/>
                </a:solidFill>
                <a:latin typeface="Times New Roman"/>
              </a:rPr>
              <a:t>Были предприняты меры по совершенствованию механизма государственного управления в Австрии и Чехии, укреплению единства и стабильности провинций, преодолению хронического финансового дефицита и улучшению состояния экономики в целом. Во всех этих сферах образцом и вдохновляющим примером служила Пруссия. В Австрии сочли, что модернизация повысит военную мощь государства, подтвердит притязания Австрии на статус великой державы и подготовит путь к ослаблению мощи короля Пруссии Фридриха. Австрийские вооруженные силы, государственное управление и налоговая система были полностью перестроены. Центральное место при реорганизации государственной власти занял государственный совет, имевший совещательные функции и состоявший из специалистов от каждого из департаментов по внутренним делам. Был создан новый верховный суд, а судебная система была отделена от системы государственного управления. В соответствии с тенденциями, характерными для эпохи Просвещения, были изданы новые кодексы законов. Коренному обновлению подверглись внешнеполитическое и военное ведомства. Военные расходы возросли, был введен централизованный рекрутский набор. Усложнившаяся организация вооруженных сил потребовала привлечения большего числа гражданских работников. Для увеличения эффективности государственного управления и обеспечения централизации был расширен контингент гражданских служащих в Вене и в провинциях; теперь они набирались из среднего класса. В наследственных землях короны и в Чехии местные ландтаги утратили ряд важных функций, а чиновникам короны был предоставлен широкий круг полномочий, начиная от надзора за крепостными и кончая юрисдикцией в вопросах полиции и образовании. </a:t>
            </a:r>
            <a:br>
              <a:rPr sz="1300"/>
            </a:br>
            <a:r>
              <a:rPr b="0" lang="ru-RU" sz="1300" spc="-1" strike="noStrike">
                <a:solidFill>
                  <a:srgbClr val="ffffff"/>
                </a:solidFill>
                <a:latin typeface="Times New Roman"/>
              </a:rPr>
              <a:t>Реформы коснулись и деревни. Согласно т.н. барщинным патентам (1771–1778), барщина крестьян была ограничена тремя днями в неделю. </a:t>
            </a:r>
            <a:br>
              <a:rPr sz="1300"/>
            </a:br>
            <a:r>
              <a:rPr b="0" lang="ru-RU" sz="1300" spc="-1" strike="noStrike">
                <a:solidFill>
                  <a:srgbClr val="ffffff"/>
                </a:solidFill>
                <a:latin typeface="Times New Roman"/>
              </a:rPr>
              <a:t>В экономической сфере поощрялось развитие мануфактурного производства. Несмотря на сопротивление традиционных цеховых объединений, создавались новые, современные промышленные предприятия. Венгрия должна была служить рынком сбыта для промышленной продукции из Австрии и житницей для австрийских городов. Были введены всеобщий подоходный налог, единая система пограничных и внутренних пошлин. С целью расширения международной торговли был создан небольшой торговый флот, модернизированы порты в Триесте и Риеке. Возникли компании, которые осуществляли торговые связи с южной Азией. </a:t>
            </a:r>
            <a:br>
              <a:rPr sz="1300"/>
            </a:br>
            <a:br>
              <a:rPr sz="900"/>
            </a:br>
            <a:r>
              <a:rPr b="0" lang="ru-RU" sz="900" spc="-1" strike="noStrike">
                <a:solidFill>
                  <a:srgbClr val="ffffff"/>
                </a:solidFill>
                <a:latin typeface="Times New Roman"/>
              </a:rPr>
              <a:t> </a:t>
            </a:r>
            <a:endParaRPr b="0" lang="en-US" sz="9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964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Просвещенный деспотизм </a:t>
            </a:r>
            <a:endParaRPr b="1" lang="en-US" sz="4400" spc="-1" strike="noStrike">
              <a:solidFill>
                <a:srgbClr val="e5e5ff"/>
              </a:solidFill>
              <a:latin typeface="Garamond"/>
            </a:endParaRPr>
          </a:p>
        </p:txBody>
      </p:sp>
      <p:sp>
        <p:nvSpPr>
          <p:cNvPr id="143" name="PlaceHolder 2"/>
          <p:cNvSpPr>
            <a:spLocks noGrp="1"/>
          </p:cNvSpPr>
          <p:nvPr>
            <p:ph/>
          </p:nvPr>
        </p:nvSpPr>
        <p:spPr>
          <a:xfrm>
            <a:off x="0" y="981000"/>
            <a:ext cx="8686800" cy="4525920"/>
          </a:xfrm>
          <a:prstGeom prst="rect">
            <a:avLst/>
          </a:prstGeom>
          <a:noFill/>
          <a:ln w="0">
            <a:noFill/>
          </a:ln>
        </p:spPr>
        <p:txBody>
          <a:bodyPr lIns="90000" rIns="90000" tIns="46800" bIns="46800" anchor="t">
            <a:normAutofit fontScale="95000"/>
          </a:bodyPr>
          <a:p>
            <a:pPr marL="325800" indent="-32580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ын Марии Терезии, Иосиф II, ставший соправителем своей матери после 1765, часто вступал с ней в споры по вопросам государственной политики. В 1780 он взял бразды правления в свои руки. Новый император стремился укрепить могущество Австрии и ее единство, улучшить систему государственного управления. Он был убежден, что личная власть суверена должна быть неограниченной и что ему надлежит внедрять в сознание населяющих страну народов дух общей родины. Были изданы указы, объявлявшие немецкий язык государственным, что позволило унифицировать сферу государственного управления и ускорить судебные процедуры. Полномочия венгерского сейма были урезаны, а вскоре он и вовсе прекратил свою деятельность. Демонстрируя просвещенность и добрую волю, Иосиф II провозгласил равенство всех подданных перед судом и при сборе налогов. Печатная и театральная цензура была временно смягчена. Размеры оброка, который уплачивали крестьяне, теперь регулировались чиновниками короны, а размеры взимаемых налогов зависели от доходов с земли. </a:t>
            </a:r>
            <a:br>
              <a:rPr sz="1400"/>
            </a:br>
            <a:r>
              <a:rPr b="0" lang="ru-RU" sz="1400" spc="-1" strike="noStrike">
                <a:solidFill>
                  <a:srgbClr val="ffffff"/>
                </a:solidFill>
                <a:latin typeface="Times New Roman"/>
              </a:rPr>
              <a:t>Хотя Иосиф II объявил себя защитником католичества, он вел энергичную борьбу с властью папы Римского. Фактически он стремился превратить церковь в своих владениях в инструмент государства, независимый от Рима. Духовенство было лишено десятины и было вынуждено обучаться в семинариях под государственным контролем, а архиепископы обязаны были официально приносить клятву лояльности короне. Были ликвидированы церковные суды, брак стал рассматриваться как гражданский договор, находящийся вне компетенции церкви. Число религиозных праздников было сокращено, а украшение культовых зданиях регламентировалось государством. Приблизительно каждый третий из монастырей был закрыт. Иосиф II издал указ о всеобщем и обязательном школьном обучении. Средства на обучение должны были выделять дворянство и местные власти. Хотя эта мера не была до конца осуществлена, посещаемость школ значительно увеличилась. </a:t>
            </a:r>
            <a:br>
              <a:rPr sz="1400"/>
            </a:br>
            <a:r>
              <a:rPr b="0" lang="ru-RU" sz="1400" spc="-1" strike="noStrike">
                <a:solidFill>
                  <a:srgbClr val="ffffff"/>
                </a:solidFill>
                <a:latin typeface="Times New Roman"/>
              </a:rPr>
              <a:t>Иосиф II безвременно скончался в 1790. Его брат, Леопольд II, хорошо зарекомендовавший себя в роли правителя итальянской Тосканы, быстро восстановил пошатнувшийся порядок. Крепостное право в Венгрии было восстановлено, а в Австрии крестьянин хотя и остался лично свободным, попал в еще более тяжкую зависимость от помещика. </a:t>
            </a:r>
            <a:br>
              <a:rPr sz="1400"/>
            </a:br>
            <a:r>
              <a:rPr b="0" lang="ru-RU" sz="1400" spc="-1" strike="noStrike">
                <a:solidFill>
                  <a:srgbClr val="ffffff"/>
                </a:solidFill>
                <a:latin typeface="Times New Roman"/>
              </a:rPr>
              <a:t>Венгерский сейм, не созывавшийся при Иосифе II, был вновь созван и подтвердил старые свободы и конституционные права королевства. Леопольд II сделал также ряд политических уступок Чехии и короновался в качестве чешского короля. </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Войны против Франции </a:t>
            </a:r>
            <a:endParaRPr b="1" lang="en-US" sz="4400" spc="-1" strike="noStrike">
              <a:solidFill>
                <a:srgbClr val="e5e5ff"/>
              </a:solidFill>
              <a:latin typeface="Garamond"/>
            </a:endParaRPr>
          </a:p>
        </p:txBody>
      </p:sp>
      <p:sp>
        <p:nvSpPr>
          <p:cNvPr id="145" name="PlaceHolder 2"/>
          <p:cNvSpPr>
            <a:spLocks noGrp="1"/>
          </p:cNvSpPr>
          <p:nvPr>
            <p:ph/>
          </p:nvPr>
        </p:nvSpPr>
        <p:spPr>
          <a:xfrm>
            <a:off x="0" y="1341360"/>
            <a:ext cx="8964720" cy="51832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ак и вся Европа, Австрия испытала на себе последствия Французской революции и правления Наполеона Бонапарта. Жажда территориальных захватов, династическое родство с французской королевой Марией Антуанеттой, сестрой Иосифа II и Леопольда II, опасения, что идеи Французской революции окажут влияние на различные народы монархии, рост патриотизма, особенно среди немецкоязычного населения – сочетание всех этих разнообразных тенденций и мотивов сделали Австрию непримиримым врагом Франции.</a:t>
            </a:r>
            <a:br>
              <a:rPr sz="1600"/>
            </a:br>
            <a:r>
              <a:rPr b="0" lang="ru-RU" sz="1600" spc="-1" strike="noStrike">
                <a:solidFill>
                  <a:srgbClr val="ffffff"/>
                </a:solidFill>
                <a:latin typeface="Times New Roman"/>
              </a:rPr>
              <a:t>Военные действия против Франции начались в 1792 и продолжались с перерывами до осени 1815. Не раз за это время австрийские армии терпели поражение, дважды гренадеры Наполеона штурмовали прославленную Вену, которая по численности населения (ок. 230 тыс. человек) в Европе уступала только Лондону и Парижу. Армия Габсбургов несла большие потери, страдания и лишения жителей крупных и малых городов сравнимы с тяготами, пережитыми в мировых войнах 20 в. Галопирующая инфляция, крушение налоговой системы и хаос в экономике поставили государство на грань катастрофы.</a:t>
            </a:r>
            <a:br>
              <a:rPr sz="1600"/>
            </a:br>
            <a:r>
              <a:rPr b="0" lang="ru-RU" sz="1600" spc="-1" strike="noStrike">
                <a:solidFill>
                  <a:srgbClr val="ffffff"/>
                </a:solidFill>
                <a:latin typeface="Times New Roman"/>
              </a:rPr>
              <a:t>Не раз Наполеон диктовал Австрии условия мира. Император Франц I вынужден был выдать свою дочь Марию Луизу замуж за Наполеона (1810), которого ранее именовал «французским авантюристом». Крестьяне Тироля во главе с трактирщиком Андреасом Гофером подняли восстание и оказали сопротивление наполеоновским войскам. Австрийские войска нанесли чувствительное поражение французам под Асперном близ Вены (1809), но были разгромлены Наполеоном через несколько дней у Ваграма. Австрийской армией командовал эрцгерцог Карл, военная слава которого соперничала со славой принца Евгения Савойского: их конные статуи украшают Хельденплац («Площадь героев») в центре Вены. Австрийский фельдмаршал Карл Шварценберг командовал союзными войсками, которые в 1813 нанесли поражение Наполеону в битве под Лейпцигом. </a:t>
            </a:r>
            <a:br>
              <a:rPr sz="1600"/>
            </a:br>
            <a:r>
              <a:rPr b="0" lang="ru-RU" sz="1600" spc="-1" strike="noStrike">
                <a:solidFill>
                  <a:srgbClr val="ffffff"/>
                </a:solidFill>
                <a:latin typeface="Times New Roman"/>
              </a:rPr>
              <a:t> </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Австрийская империя </a:t>
            </a:r>
            <a:endParaRPr b="1" lang="en-US" sz="4400" spc="-1" strike="noStrike">
              <a:solidFill>
                <a:srgbClr val="e5e5ff"/>
              </a:solidFill>
              <a:latin typeface="Garamond"/>
            </a:endParaRPr>
          </a:p>
        </p:txBody>
      </p:sp>
      <p:sp>
        <p:nvSpPr>
          <p:cNvPr id="147" name="PlaceHolder 2"/>
          <p:cNvSpPr>
            <a:spLocks noGrp="1"/>
          </p:cNvSpPr>
          <p:nvPr>
            <p:ph/>
          </p:nvPr>
        </p:nvSpPr>
        <p:spPr>
          <a:xfrm>
            <a:off x="-396720" y="836640"/>
            <a:ext cx="9540720" cy="5246640"/>
          </a:xfrm>
          <a:prstGeom prst="rect">
            <a:avLst/>
          </a:prstGeom>
          <a:noFill/>
          <a:ln w="0">
            <a:noFill/>
          </a:ln>
        </p:spPr>
        <p:txBody>
          <a:bodyPr lIns="90000" rIns="90000" tIns="46800" bIns="46800" anchor="t">
            <a:normAutofit fontScale="92000"/>
          </a:bodyPr>
          <a:p>
            <a:pPr marL="315360" indent="-3153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Франц I в 1804 присвоил своему государству название Австрийская империя. По воле Наполеона Священная Римская империя германской нации, корона которой почти в течение четырех столетий фактически передавалась по наследству в семье Габсбургов, прекратила свое существование (1806). Территориальные изменения в Европе, произведенные в эпоху Наполеона, затронули и Австрию. Знаменательно, что международный конгресс, который заложил основы мирного устройства после низвержения Бонапарта, был созван в Вене. В течение нескольких месяцев в 1814–1815 столица Габсбургов являлась местом встреч политиков высшего ранга крупных и мелких европейских государств. Широко разветвленная сеть австрийских шпионов следила за прибывавшими высокими особами.</a:t>
            </a:r>
            <a:br>
              <a:rPr sz="1400"/>
            </a:br>
            <a:r>
              <a:rPr b="0" lang="ru-RU" sz="1400" spc="-1" strike="noStrike">
                <a:solidFill>
                  <a:srgbClr val="ffffff"/>
                </a:solidFill>
                <a:latin typeface="Times New Roman"/>
              </a:rPr>
              <a:t>Председательствовал на венских дебатах граф (позже князь) Клеменс Меттерних, министр иностранных дел и впоследствии канцлер Австрии. На конгрессе он с успехом обеспечил дому Габсбургов безопасное положение в Европе и помешал России распространить свое влияние на центральную часть континента. </a:t>
            </a:r>
            <a:br>
              <a:rPr sz="1400"/>
            </a:br>
            <a:r>
              <a:rPr b="0" lang="ru-RU" sz="1400" spc="-1" strike="noStrike">
                <a:solidFill>
                  <a:srgbClr val="ffffff"/>
                </a:solidFill>
                <a:latin typeface="Times New Roman"/>
              </a:rPr>
              <a:t>Австрия вынуждена была отказаться от Бельгии, но получила за это солидную компенсацию. Под скипетр Вены перешли Далмация, западная часть Истрии, острова в Адриатике, ранее принадлежавшие Венеции, сама бывшая Венецианская республика и соседняя итальянская провинция Ломбардия. Представители рода Габсбургов получили короны Тосканы, Пармы и Модены. Австрия пользовалась сильным влиянием в Папской области и Королевстве Обоих Сицилий. В результате Апеннинский полуостров превратился фактически в придаток Дунайской монархии. Значительная часть польской Галиции была возвращена Австрии, а в 1846 была аннексирована небольшая Краковская республика, единственный свободный участок Польши, сохраненный миротворцами в 1815. </a:t>
            </a:r>
            <a:br>
              <a:rPr sz="1400"/>
            </a:br>
            <a:br>
              <a:rPr sz="1400"/>
            </a:br>
            <a:r>
              <a:rPr b="0" lang="ru-RU" sz="1400" spc="-1" strike="noStrike">
                <a:solidFill>
                  <a:srgbClr val="ffffff"/>
                </a:solidFill>
                <a:latin typeface="Times New Roman"/>
              </a:rPr>
              <a:t>На протяжении первой половины 19 в. ведущей фигурой в государственной жизни Австрии являлся император Франц I. Будучи канцлером империи, Меттерних обладал значительным политическим весом. После эксцессов Французской революции, ужасов и беспорядков, вызванных наполеоновскими войнами, он стремился к порядку и внутреннему согласию. Канцлер неоднократно советовал создать парламент из представителей разных народов Австрии и предоставить провинциальным сеймам реальные полномочия, но император не прислушивался к его советам. </a:t>
            </a:r>
            <a:br>
              <a:rPr sz="1400"/>
            </a:br>
            <a:br>
              <a:rPr sz="1400"/>
            </a:br>
            <a:r>
              <a:rPr b="0" lang="ru-RU" sz="1400" spc="-1" strike="noStrike">
                <a:solidFill>
                  <a:srgbClr val="ffffff"/>
                </a:solidFill>
                <a:latin typeface="Times New Roman"/>
              </a:rPr>
              <a:t>В сфере дипломатии Меттерних внес значительный вклад в сохранение мира в Европе. Когда представлялся случай, австрийские войска направлялись на подавление местных восстаний, создавая себе, своей стране и ее первому министру одиозную репутацию среди приверженцев свободы и национального объединения. Внутренняя политика определялась в основном императором Францем I. Государственные чиновники держали всю сферу образования и учащихся под жестким контролем, предписывая, что можно читать и изучать. Глава ведомства цензуры, граф Йозеф Седльницки, запрещал на литературные произведения, враждебные абсолютизму императора или религии, а организации, заподозренные в политической ереси, подвергались гонениям. Журналистам было запрещено даже употреблять слово «конституция». </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Революции 1848–1849 </a:t>
            </a:r>
            <a:endParaRPr b="1" lang="en-US" sz="4400" spc="-1" strike="noStrike">
              <a:solidFill>
                <a:srgbClr val="e5e5ff"/>
              </a:solidFill>
              <a:latin typeface="Garamond"/>
            </a:endParaRPr>
          </a:p>
        </p:txBody>
      </p:sp>
      <p:sp>
        <p:nvSpPr>
          <p:cNvPr id="149" name="PlaceHolder 2"/>
          <p:cNvSpPr>
            <a:spLocks noGrp="1"/>
          </p:cNvSpPr>
          <p:nvPr>
            <p:ph/>
          </p:nvPr>
        </p:nvSpPr>
        <p:spPr>
          <a:xfrm>
            <a:off x="-396720" y="620640"/>
            <a:ext cx="9540720" cy="5361120"/>
          </a:xfrm>
          <a:prstGeom prst="rect">
            <a:avLst/>
          </a:prstGeom>
          <a:noFill/>
          <a:ln w="0">
            <a:noFill/>
          </a:ln>
        </p:spPr>
        <p:txBody>
          <a:bodyPr lIns="90000" rIns="90000" tIns="46800" bIns="46800" anchor="t">
            <a:normAutofit fontScale="91000"/>
          </a:bodyPr>
          <a:p>
            <a:pPr marL="312120" indent="-31212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Революция в Париже в 1848 отозвалась выступлениями в Вене, Чехии, Венгрии и итальянских провинциях. Империи Габсбургов угрожал распад. Группы студентов и ремесленников и либерально настроенной буржуазии требовали, чтобы князь Меттерних ушел в отставку с государственных постов и в стране была принята конституция. Двор Габсбургов согласился. 75-летний Меттерних, бывший на протяжении двух поколений «скалой порядка», бежал в Англию.</a:t>
            </a:r>
            <a:br>
              <a:rPr sz="1400"/>
            </a:br>
            <a:r>
              <a:rPr b="0" lang="ru-RU" sz="1400" spc="-1" strike="noStrike">
                <a:solidFill>
                  <a:srgbClr val="ffffff"/>
                </a:solidFill>
                <a:latin typeface="Times New Roman"/>
              </a:rPr>
              <a:t>Австрийское Учредительное собрание отменило крепостное право. Это стало главным достижением революционной бури. В октябре 1848 Вена пережила вторую волну массовых волнений. Уличные бои, которые вели сторонники реформ, вызвали серьезные разрушения в городах. Императорская армия подавила восстание. Князь Феликс Шварценберг, присвоив диктаторские полномочия, заменил слабоумного императора Фердинанда I его 18-летним племянником, Францем Иосифом. Был разработан проект конституции, предусматривавший создание федерального законодательного органа с участием различных национальных групп и равенство наций. Но этот документ так никогда и не вступил в силу. Позднее была провозглашена единая имперская конституция, но и она не была введена в действие. </a:t>
            </a:r>
            <a:br>
              <a:rPr sz="1400"/>
            </a:br>
            <a:r>
              <a:rPr b="0" lang="ru-RU" sz="1400" spc="-1" strike="noStrike">
                <a:solidFill>
                  <a:srgbClr val="ffffff"/>
                </a:solidFill>
                <a:latin typeface="Times New Roman"/>
              </a:rPr>
              <a:t>В Чехии чешскоязычные и немецкоязычные оппозиционеры на первых порах объединились, чтобы добиться уступок от дома Габсбургов. Однако их пути разошлись, когда чешские патриоты потребовали самоуправления для Чехии и выступили против объединения в единое германское государство. Сторонники умеренные взглядов высказывались за сохранение Австрийской империи, преобразованной в федерацию на основе равенства народов. </a:t>
            </a:r>
            <a:br>
              <a:rPr sz="1400"/>
            </a:br>
            <a:r>
              <a:rPr b="0" lang="ru-RU" sz="1400" spc="-1" strike="noStrike">
                <a:solidFill>
                  <a:srgbClr val="ffffff"/>
                </a:solidFill>
                <a:latin typeface="Times New Roman"/>
              </a:rPr>
              <a:t>В июне 1848 в Праге собрался съезд славянских лидеров Австрии и представителей зарубежных славян для обсуждения политических проблем. Произошло столкновение чешских патриотов с немцами. В итоге город был оккупирован австрийской армией, что стало началом восстановления власти Габсбургов. Восстание в Венгрии развивалось по более запутанному сюжету. По требованию Кошута венский двор предоставил Венгрии практически полный контроль над ее внутренними делами при сохранении династических и военных связей с Австрией. Крепостные были освобождены, были обещаны широкие гражданские свободы. Но венгерские политики упорно отказывали в элементарных человеческих правах малочисленным народам королевства, которых в совокупности было больше, чем венгров. Для хорватов и румын венгерский шовинизм был еще хуже, чем авторитаризм Габсбургов. Эти народы, подстрекаемые Веной, вступили в борьбу с венграми, к которой вскоре присоединились австрийские войска. </a:t>
            </a:r>
            <a:br>
              <a:rPr sz="1400"/>
            </a:br>
            <a:r>
              <a:rPr b="0" lang="ru-RU" sz="1400" spc="-1" strike="noStrike">
                <a:solidFill>
                  <a:srgbClr val="ffffff"/>
                </a:solidFill>
                <a:latin typeface="Times New Roman"/>
              </a:rPr>
              <a:t>14 апреля 1849 Кошут провозгласил независимость Венгрии. Так как австрийское правительство не располагало достаточными военными силами для подавления восстания, оно обратилось за помощью к российскому царю Николаю I. Тот откликнулся немедленно, и российские войска нанесли смертельный удар по венгерскому восстанию. Остатки венгерской автономии были полностью ликвидированы, сам Кошут бежал. Когда казалось, что династия Габсбургов находится на краю гибели, Ломбардия и Венеция подняли восстание, и была возрождена Венецианская республика. Однако австрийские войска подавили мятеж и восстановили господство Австрии над итальянскими провинциями и всем Апеннинским полуостровом. Венский двор стремился также предотвратить объединение германских государств, чтобы не дать Пруссии занять доминирующее положение в немецкоязычной Европе. Австрия вышла из революционных потрясений ослабленной, но сохранила свою целостность. </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Римская эпоха. </a:t>
            </a:r>
            <a:br>
              <a:rPr sz="4000"/>
            </a:br>
            <a:endParaRPr b="1" lang="en-US" sz="4000" spc="-1" strike="noStrike">
              <a:solidFill>
                <a:srgbClr val="e5e5ff"/>
              </a:solidFill>
              <a:latin typeface="Garamond"/>
            </a:endParaRPr>
          </a:p>
        </p:txBody>
      </p:sp>
      <p:sp>
        <p:nvSpPr>
          <p:cNvPr id="105" name="PlaceHolder 2"/>
          <p:cNvSpPr>
            <a:spLocks noGrp="1"/>
          </p:cNvSpPr>
          <p:nvPr>
            <p:ph/>
          </p:nvPr>
        </p:nvSpPr>
        <p:spPr>
          <a:xfrm>
            <a:off x="0" y="1052640"/>
            <a:ext cx="3967200" cy="4525920"/>
          </a:xfrm>
          <a:prstGeom prst="rect">
            <a:avLst/>
          </a:prstGeom>
          <a:noFill/>
          <a:ln w="0">
            <a:noFill/>
          </a:ln>
        </p:spPr>
        <p:txBody>
          <a:bodyPr lIns="90000" rIns="90000" tIns="46800" bIns="46800" anchor="t">
            <a:normAutofit fontScale="89000"/>
          </a:bodyPr>
          <a:p>
            <a:pPr marL="305280" indent="-3052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 первых обитателях Австрии известно крайне мало. Скудные исторические данные свидетельствуют о существовании докельтского населения. Около 400–300 в до н.э. появились воинственные кельтские племена со своим наречием, религиозными культами и традициями. Смешавшись с древними жителями, кельты образовали королевство Норик. В начале 2 в. до н.э. власть Рима распространялась до Дуная. Однако римляне вынуждены были постоянно бороться с кочевыми германскими варварами, вторгавшимися с севера через Дунай, служивший границей римской цивилизации. Римляне построили укрепленные военные лагеря в Виндобоне (Вена) и в Карнунте, в 48 км от первого; в районе Хоэр Маркт в Вене сохранились остатки римских построек. В районе среднего Дуная римляне способствовали развитию городов, ремесел, торговли и рудной промышленности, построили дороги и здания. Император Марк Аврелий (умер в Виндобоне в 180 н.э.) сочинил в Карнунте часть своих бессмертных Размышлений. Римляне насаждали среди местного населения языческие религиозные обряды, светские институты и обычаи, латинский язык и литературу. К 4 в. относится христианизация этого региона.</a:t>
            </a:r>
            <a:br>
              <a:rPr sz="1400"/>
            </a:br>
            <a:br>
              <a:rPr sz="1400"/>
            </a:br>
            <a:r>
              <a:rPr b="0" lang="en-US" sz="1400" spc="-1" strike="noStrike">
                <a:solidFill>
                  <a:srgbClr val="ffffff"/>
                </a:solidFill>
                <a:latin typeface="Times New Roman"/>
              </a:rPr>
              <a:t> </a:t>
            </a:r>
            <a:endParaRPr b="0" lang="en-US" sz="1400" spc="-1" strike="noStrike">
              <a:solidFill>
                <a:srgbClr val="ffffff"/>
              </a:solidFill>
              <a:latin typeface="Garamond"/>
            </a:endParaRPr>
          </a:p>
        </p:txBody>
      </p:sp>
      <p:pic>
        <p:nvPicPr>
          <p:cNvPr id="106" name="" descr=""/>
          <p:cNvPicPr/>
          <p:nvPr/>
        </p:nvPicPr>
        <p:blipFill>
          <a:blip r:embed="rId1"/>
          <a:stretch/>
        </p:blipFill>
        <p:spPr>
          <a:xfrm>
            <a:off x="4284720" y="981000"/>
            <a:ext cx="3816360" cy="2185920"/>
          </a:xfrm>
          <a:prstGeom prst="rect">
            <a:avLst/>
          </a:prstGeom>
          <a:ln w="0">
            <a:noFill/>
          </a:ln>
        </p:spPr>
      </p:pic>
      <p:sp>
        <p:nvSpPr>
          <p:cNvPr id="107" name=""/>
          <p:cNvSpPr txBox="1"/>
          <p:nvPr/>
        </p:nvSpPr>
        <p:spPr>
          <a:xfrm>
            <a:off x="3635280" y="3212640"/>
            <a:ext cx="5262480" cy="2187720"/>
          </a:xfrm>
          <a:prstGeom prst="rect">
            <a:avLst/>
          </a:prstGeom>
          <a:noFill/>
          <a:ln w="0">
            <a:noFill/>
          </a:ln>
        </p:spPr>
        <p:txBody>
          <a:bodyPr lIns="90000" rIns="90000" tIns="46800" bIns="46800" anchor="t">
            <a:normAutofit fontScale="80000"/>
          </a:bodyPr>
          <a:p>
            <a:pPr marL="274320" indent="-274320">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В 5 и 6 вв. германские племена наводнили большую часть римских владений в западной части современной Австрии. В восточные и южные части современной Австрии вторглись тюркоязычные кочевники – авары, вместе с ними (или вслед за ними) мигрировали славянские народы – будущие словенцы, хорваты и чехи, среди которых растворились авары. В западных районах миссионеры (ирландцы, франки, англы) обратили в христианскую веру германцев-язычников (баваров); центрами христианской культуры стали города Зальцбург и Пассау. Приблизительно в 774 в Зальцбурге был сооружен собор, и к концу 8 в. местный архиепископ получил власть над соседними епархиями. Строились монастыри (например, Кремсмюнстер), и с этих островов цивилизации началось обращение славян в христианство. </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a:p>
            <a:pPr marL="274320" indent="-274320">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Рождение Австро-Венгерской монархии </a:t>
            </a:r>
            <a:endParaRPr b="1" lang="en-US" sz="4000" spc="-1" strike="noStrike">
              <a:solidFill>
                <a:srgbClr val="e5e5ff"/>
              </a:solidFill>
              <a:latin typeface="Garamond"/>
            </a:endParaRPr>
          </a:p>
        </p:txBody>
      </p:sp>
      <p:sp>
        <p:nvSpPr>
          <p:cNvPr id="151" name="PlaceHolder 2"/>
          <p:cNvSpPr>
            <a:spLocks noGrp="1"/>
          </p:cNvSpPr>
          <p:nvPr>
            <p:ph/>
          </p:nvPr>
        </p:nvSpPr>
        <p:spPr>
          <a:xfrm>
            <a:off x="-181080" y="1267920"/>
            <a:ext cx="9144000" cy="500076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нязь Феликс Шварценберг фактически управлял Австрией до своей смерти в 1852, а затем полноту власти взял на себя Франц Иосиф. Проводилась германизация всех народов империи, не говоривших на немецком языке. Чешское патриотическое движение было подавлено, венгры были усмирены. В 1850 Венгрия была объединена с Австрией в единый таможенный союз. По конкордату 1855, Римско-католическая церковь получила право на собственную систему образования и печать.</a:t>
            </a:r>
            <a:br>
              <a:rPr sz="1400"/>
            </a:br>
            <a:br>
              <a:rPr sz="1400"/>
            </a:br>
            <a:r>
              <a:rPr b="0" lang="ru-RU" sz="1400" spc="-1" strike="noStrike">
                <a:solidFill>
                  <a:srgbClr val="ffffff"/>
                </a:solidFill>
                <a:latin typeface="Times New Roman"/>
              </a:rPr>
              <a:t>На Апеннинском полуострове движение за национальное объединение возглавил умелый политик Сардинского королевства (Пьемонта), граф Камилло Кавур. В его планы входило освобождение Ломбардии и Венеции. В соответствии с тайным соглашением с французским императором Наполеоном III, Кавур в 1859 спровоцировал войну с Австрией. Соединенные франко-сардинские силы разбили войска Франца Иосифа, и Австрия была вынуждена отказаться от Ломбардии. В 1860 были свергнуты проавстрийские династии в небольших государствах Италии, и под главенством Пьемонта образовалось объединенное Итальянское королевство. В 1884 Австрия в союзе с Пруссией начала войну против Дании за контроль над небольшими территориями Шлезвига и Гольштейна. </a:t>
            </a:r>
            <a:br>
              <a:rPr sz="1400"/>
            </a:br>
            <a:br>
              <a:rPr sz="1400"/>
            </a:br>
            <a:r>
              <a:rPr b="0" lang="ru-RU" sz="1400" spc="-1" strike="noStrike">
                <a:solidFill>
                  <a:srgbClr val="ffffff"/>
                </a:solidFill>
                <a:latin typeface="Times New Roman"/>
              </a:rPr>
              <a:t>В 1866 спор о разделе датских трофеев привел к войне между Австрией и Пруссией. На стороне Пруссии выступила Италия, и Австрийская империя потерпела поражение. Впрочем, условия мирного договора, продиктованные Бисмарком, оказались вполне терпимыми. В этом заключался тонкий расчет прусского канцлера. Дом Габсбургов должен был отказаться от своей исторической роли в германских делах, не уступая Пруссии никаких территорий (кроме земель, отобранных у Дании). С другой стороны, хотя австрийские войска разбили итальянцев на суше и на море, Венеция была передана Италии, ряд итальянских областей остался под контролем Габсбургов.</a:t>
            </a:r>
            <a:br>
              <a:rPr sz="1400"/>
            </a:br>
            <a:r>
              <a:rPr b="0" lang="ru-RU" sz="1400" spc="-1" strike="noStrike">
                <a:solidFill>
                  <a:srgbClr val="ffffff"/>
                </a:solidFill>
                <a:latin typeface="Times New Roman"/>
              </a:rPr>
              <a:t>Потеря территорий и престижа вызвала необходимость в новой форме отношений между Австрией и Венгрией. Различные проекты конституции, предусматривавшие создание объединенного парламента, были подготовлены без участия венгров. Наконец, в 1867 был выработан знаменитый «компромисс» (Ausgleich). Австрийская империя, провозглашенная в 1804, была преобразована в дуалистическую Австро-Венгрию, с верховенством венгров в Венгрии и австрийцев – остальной части нового государства. В сфере международных отношений оба государства должны были действовать как единое целое, сохраняя автономию во внутренних делах.</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52720" y="259920"/>
            <a:ext cx="9396360" cy="612612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дним из направлений реорганизации государственного управления 1860-х годов в австрийской половине двуединой монархии стала дальнейшая разработка конституции. Конституция гарантировала гражданские свободы и равноправие для всех языковых групп. Был учрежден двухпалатный парламент государства – рейхсрат. Депутаты нижней палаты избирались в ходе непрямых выборов. Конституция предусматривала широкие полномочия законодательных органов, которые должны были собираться один раз в год. Кабинет министров был ответствен перед нижней палатой. Обе палаты обладали равной законодательной властью. Один из параграфов конституции (знаменитая статья XIV) представлял монарху полномочия издавать между сессиями парламента декреты, имевшие силу закона. </a:t>
            </a:r>
            <a:br>
              <a:rPr sz="1400"/>
            </a:br>
            <a:r>
              <a:rPr b="0" lang="ru-RU" sz="1400" spc="-1" strike="noStrike">
                <a:solidFill>
                  <a:srgbClr val="ffffff"/>
                </a:solidFill>
                <a:latin typeface="Times New Roman"/>
              </a:rPr>
              <a:t>Чехи требовали предоставить Чехии такой же статус в монархии, какой получила Венгрия, но так и не сумели этого добиться. Чехи добились уступок в области языка, доступа на государственную службу и в сфере образования, и все же не было принято ни одной конституционной формулы, которая могла бы удовлетворить притязания чехов и в то же время оказаться приемлемой для австро-немцев.</a:t>
            </a:r>
            <a:br>
              <a:rPr sz="1400"/>
            </a:br>
            <a:r>
              <a:rPr b="0" lang="ru-RU" sz="1400" spc="-1" strike="noStrike">
                <a:solidFill>
                  <a:srgbClr val="ffffff"/>
                </a:solidFill>
                <a:latin typeface="Times New Roman"/>
              </a:rPr>
              <a:t>Поляки в Галиции получили значительную степень автономии, которая их вполне удовлетворяла. Среди многочисленного украинского меньшинства в Галиции продолжались волнения из-за дискриминации и репрессий со стороны поляков, а небольшая по численности прослойка украинской интеллигенции боролась за права своих соотечественников. </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Из всех австрийских народов наибольшее беспокойство венского двора вызывали южные славяне (словенцы, хорваты, сербы). Число представителей этой национальной группы возросло в 1908, когда Австро-Венгрия аннексировала бывшую турецкую провинцию Босния и Герцеговина. Южные славяне в Австрии сильно различались по своим взглядам. Некоторые из них стремились объединиться с королевством Сербия, другие были довольны существующим положением, третьи предпочитали создание южнославянского государства в рамках Габсбургской монархии. </a:t>
            </a:r>
            <a:br>
              <a:rPr sz="1400"/>
            </a:br>
            <a:r>
              <a:rPr b="0" lang="ru-RU" sz="1400" spc="-1" strike="noStrike">
                <a:solidFill>
                  <a:srgbClr val="ffffff"/>
                </a:solidFill>
                <a:latin typeface="Times New Roman"/>
              </a:rPr>
              <a:t>Эта последняя альтернатива означала образование государства, охватывающего районы с южнославянским населением как Венгрии, так и Австрии, с тем же статусом, что и Австрийская империя или Венгерское королевство. Это предложение встретило известную поддержку в Австрии, но было отрицательно воспринято почти всеми венгерскими политиками. Предлагались и более широкие проекты переустройства монархии в федеральный союз народов, но концепция габсбургских «Соединенных Штатов» так никогда и не была осуществлена на практике. </a:t>
            </a:r>
            <a:br>
              <a:rPr sz="1400"/>
            </a:br>
            <a:r>
              <a:rPr b="0" lang="ru-RU" sz="1400" spc="-1" strike="noStrike">
                <a:solidFill>
                  <a:srgbClr val="ffffff"/>
                </a:solidFill>
                <a:latin typeface="Times New Roman"/>
              </a:rPr>
              <a:t>Не было единства и среди итальянского меньшинства Австрии, проживавшего в южном Тироле, Триесте и его окрестностях. Некоторые жители, говорившие по-итальянски, молчаливо соглашались с правлением Вены, тогда как воинствующие сепаратисты призывали к объединению с Италией. Отчасти для успокоения национальных чувств, отчасти в ответ на сильное давление со стороны социал-демократов в 1907 было введено всеобщее избирательное право для взрослого мужского населения на выборах в австрийский парламент (рейхсрат). Однако политические волнения в многонациональной империи усилились. </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Экономическое развитие </a:t>
            </a:r>
            <a:endParaRPr b="1" lang="en-US" sz="4400" spc="-1" strike="noStrike">
              <a:solidFill>
                <a:srgbClr val="e5e5ff"/>
              </a:solidFill>
              <a:latin typeface="Garamond"/>
            </a:endParaRPr>
          </a:p>
        </p:txBody>
      </p:sp>
      <p:sp>
        <p:nvSpPr>
          <p:cNvPr id="154" name="PlaceHolder 2"/>
          <p:cNvSpPr>
            <a:spLocks noGrp="1"/>
          </p:cNvSpPr>
          <p:nvPr>
            <p:ph/>
          </p:nvPr>
        </p:nvSpPr>
        <p:spPr>
          <a:xfrm>
            <a:off x="0" y="1125000"/>
            <a:ext cx="9144000" cy="500076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В Чехии, Вене и других городских центрах происходило быстрое развитие промышленности. В ряде отраслей, особенно в сталелитейной и сахарной промышленности, для регулирования выпуска продукции, поддержания цен и занятости были созданы объединения фирм, называвшиеся «картелями» и во многом похожие на крупные тресты в США.</a:t>
            </a:r>
            <a:br>
              <a:rPr sz="1400"/>
            </a:br>
            <a:r>
              <a:rPr b="0" lang="ru-RU" sz="1400" spc="-1" strike="noStrike">
                <a:solidFill>
                  <a:srgbClr val="ffffff"/>
                </a:solidFill>
                <a:latin typeface="Times New Roman"/>
              </a:rPr>
              <a:t>Наиболее высокого уровня развития горнодобывающая и обрабатывающая промышленность достигли в Чехии. В Пльзене в 1868 Эмиль Шкода начал выпускать машины и оборудование, а к концу столетия его сталелитейные и горнодобывающие предприятия конкурировали по качеству производимой продукции с заводами Круппа в Германии. Сын чешского сельского сапожника Томаш Батя создал крупнейший обувной концерн Европы. Заводы в Венском районе специализировались на производстве хлопчатобумажных и шелковых тканей, ковров и химикатов, машин, вооружения, изделий из кожи и дерева, музыкальных инструментов. Город Штайр прославился своими военными заводами, а города Штирии сохранили репутацию как центры металлообрабатывающей и текстильной промышленности. </a:t>
            </a:r>
            <a:br>
              <a:rPr sz="1400"/>
            </a:br>
            <a:r>
              <a:rPr b="0" lang="ru-RU" sz="1400" spc="-1" strike="noStrike">
                <a:solidFill>
                  <a:srgbClr val="ffffff"/>
                </a:solidFill>
                <a:latin typeface="Times New Roman"/>
              </a:rPr>
              <a:t>Австрийский парламент принял законы, регулировавшие работу на текстильных предприятиях и шахтах, было введено обязательное страхование от болезни и несчастных случаев. Под руководством Карла Люгера, бургомистра Вены в 1897–1910 и члена Христианско-социальной партии столицу империи превратилась в образец «муниципального социализма». </a:t>
            </a:r>
            <a:br>
              <a:rPr sz="1400"/>
            </a:br>
            <a:r>
              <a:rPr b="0" lang="ru-RU" sz="1400" spc="-1" strike="noStrike">
                <a:solidFill>
                  <a:srgbClr val="ffffff"/>
                </a:solidFill>
                <a:latin typeface="Times New Roman"/>
              </a:rPr>
              <a:t>Сеть железных дорог охватила всю территорию империи. В течение ряда лет, предшествовавших финансовому коллапсу 1873, было проложено 9600 км железнодорожных путей. Правительство приобрело в собственность почти 90% всей сети. Австрийские финансисты и инженеры участвовали в строительстве железных дорог на Востоке, в частности знаменитой Восточной железной дороги, которая проходила через Балканы и достигла Стамбула. </a:t>
            </a:r>
            <a:br>
              <a:rPr sz="1400"/>
            </a:br>
            <a:r>
              <a:rPr b="0" lang="ru-RU" sz="1400" spc="-1" strike="noStrike">
                <a:solidFill>
                  <a:srgbClr val="ffffff"/>
                </a:solidFill>
                <a:latin typeface="Times New Roman"/>
              </a:rPr>
              <a:t>Развивалось судоходство по рекам Австрии, прорывались каналы, модернизировались порты и дороги. Триест, не вполне удобный для большого торгового флота, превратился в процветающий центр мировой торговли. Не обладая достаточными финансовыми ресурсами, страна сильно зависела от иностранных инвестиций, необходимых для развития промышленности, железных дорог и торговых предприятий. В Австрию устремились большие французские капиталы по каналам семьи Ротшильдов и капиталы крупных банков Германии. </a:t>
            </a:r>
            <a:br>
              <a:rPr sz="1400"/>
            </a:br>
            <a:r>
              <a:rPr b="0" lang="ru-RU" sz="1400" spc="-1" strike="noStrike">
                <a:solidFill>
                  <a:srgbClr val="ffffff"/>
                </a:solidFill>
                <a:latin typeface="Times New Roman"/>
              </a:rPr>
              <a:t>В рамках австро-венгерского торгового союза расцвела торговля между двумя частями монархии; Австрия поставляла промышленные товары в обмен на продовольствие и сырье из Венгрии.</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Вена в зените славы </a:t>
            </a:r>
            <a:endParaRPr b="1" lang="en-US" sz="4400" spc="-1" strike="noStrike">
              <a:solidFill>
                <a:srgbClr val="e5e5ff"/>
              </a:solidFill>
              <a:latin typeface="Garamond"/>
            </a:endParaRPr>
          </a:p>
        </p:txBody>
      </p:sp>
      <p:sp>
        <p:nvSpPr>
          <p:cNvPr id="156" name="PlaceHolder 2"/>
          <p:cNvSpPr>
            <a:spLocks noGrp="1"/>
          </p:cNvSpPr>
          <p:nvPr>
            <p:ph/>
          </p:nvPr>
        </p:nvSpPr>
        <p:spPr>
          <a:xfrm>
            <a:off x="3563640" y="692280"/>
            <a:ext cx="5411880" cy="590544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 1914 многонациональное население Вены превысило 2 млн. человек. В город приезжали немцы, чехи, евреи; немецкоязычные жители составляли теперь лишь половину населения Вены. Новая эпоха для «царицы Дуная» открылась, когда были снесены стеснявшие город средневековые крепостные стены (1858–1860) и на их месте была проложена кольцевая улица Рингштрассе. Вдоль нее строились красивые общественные здания. В городскую черту были включены пригородные районы с обширными парками, лесами и виноградниками. </a:t>
            </a:r>
            <a:br>
              <a:rPr sz="1400"/>
            </a:br>
            <a:r>
              <a:rPr b="0" lang="ru-RU" sz="1400" spc="-1" strike="noStrike">
                <a:solidFill>
                  <a:srgbClr val="ffffff"/>
                </a:solidFill>
                <a:latin typeface="Times New Roman"/>
              </a:rPr>
              <a:t>Деятельность ученых, литераторов, художников и скульпторов придала Вене международную известность. Знаменитая медицинская школа привлекала множество зарубежных ученых, а Зигмунд Фрейд создал новую науку – психоанализ. Ни один город в мире не мог превзойти Вену в области музыки. Иоганн Штраус-сын сочинял вальсы и оперетты, породившие миф о беззаботной Вене, городе веселья и радости. Композиторы Иоганнес Брамс и Антон Брукнер добились признания во всем мире. В оперном искусстве блистал Рихард Штраус, особую популярность ему принесла опера Кавалер розы. Либретто для нее и для многих других сочинений были написаны поэтом и драматургом Гуго фон Гофмансталем. </a:t>
            </a:r>
            <a:br>
              <a:rPr sz="1400"/>
            </a:br>
            <a:r>
              <a:rPr b="0" lang="ru-RU" sz="1400" spc="-1" strike="noStrike">
                <a:solidFill>
                  <a:srgbClr val="ffffff"/>
                </a:solidFill>
                <a:latin typeface="Times New Roman"/>
              </a:rPr>
              <a:t>Мировоззрение культурной части венского общества в последние десятилетия существования империи отразилось в подчеркнуто реалистических рассказах и романах, таких как Дорога на простор Артура Шницлера. Крестьянскую жизнь изображал Людвиг Анценгрубер; в его романе Усадьба Штернштейн описаны нравы и обычаи сельской Австрии. Последователь Анценгрубера, Петер Розеггер, изобразил сельскую жизнь его родной Штирии в романе Богоискатель и других произведениях. Из немецкой части Чехии происходила автор одного из самых популярных пацифистских романов эпохи </a:t>
            </a:r>
            <a:r>
              <a:rPr b="0" lang="en-US" sz="1400" spc="-1" strike="noStrike">
                <a:solidFill>
                  <a:srgbClr val="ffffff"/>
                </a:solidFill>
                <a:latin typeface="Times New Roman"/>
              </a:rPr>
              <a:t>“</a:t>
            </a:r>
            <a:r>
              <a:rPr b="0" lang="ru-RU" sz="1400" spc="-1" strike="noStrike">
                <a:solidFill>
                  <a:srgbClr val="ffffff"/>
                </a:solidFill>
                <a:latin typeface="Times New Roman"/>
              </a:rPr>
              <a:t>Долой оружие!</a:t>
            </a:r>
            <a:r>
              <a:rPr b="0" lang="en-US" sz="1400" spc="-1" strike="noStrike">
                <a:solidFill>
                  <a:srgbClr val="ffffff"/>
                </a:solidFill>
                <a:latin typeface="Times New Roman"/>
              </a:rPr>
              <a:t>”</a:t>
            </a:r>
            <a:r>
              <a:rPr b="0" lang="ru-RU" sz="1400" spc="-1" strike="noStrike">
                <a:solidFill>
                  <a:srgbClr val="ffffff"/>
                </a:solidFill>
                <a:latin typeface="Times New Roman"/>
              </a:rPr>
              <a:t> – баронесса Берта фон Зутнер.</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p:txBody>
      </p:sp>
      <p:pic>
        <p:nvPicPr>
          <p:cNvPr id="157" name="" descr=""/>
          <p:cNvPicPr/>
          <p:nvPr/>
        </p:nvPicPr>
        <p:blipFill>
          <a:blip r:embed="rId1"/>
          <a:stretch/>
        </p:blipFill>
        <p:spPr>
          <a:xfrm>
            <a:off x="179280" y="836640"/>
            <a:ext cx="3630600" cy="2725560"/>
          </a:xfrm>
          <a:prstGeom prst="rect">
            <a:avLst/>
          </a:prstGeom>
          <a:ln w="0">
            <a:noFill/>
          </a:ln>
        </p:spPr>
      </p:pic>
      <p:pic>
        <p:nvPicPr>
          <p:cNvPr id="158" name="" descr=""/>
          <p:cNvPicPr/>
          <p:nvPr/>
        </p:nvPicPr>
        <p:blipFill>
          <a:blip r:embed="rId2"/>
          <a:stretch/>
        </p:blipFill>
        <p:spPr>
          <a:xfrm>
            <a:off x="250920" y="3860640"/>
            <a:ext cx="3378240" cy="253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Вторжение венгров в Восточную марку. </a:t>
            </a:r>
            <a:br>
              <a:rPr sz="4000"/>
            </a:br>
            <a:endParaRPr b="1" lang="en-US" sz="4000" spc="-1" strike="noStrike">
              <a:solidFill>
                <a:srgbClr val="e5e5ff"/>
              </a:solidFill>
              <a:latin typeface="Garamond"/>
            </a:endParaRPr>
          </a:p>
        </p:txBody>
      </p:sp>
      <p:sp>
        <p:nvSpPr>
          <p:cNvPr id="109" name="PlaceHolder 2"/>
          <p:cNvSpPr>
            <a:spLocks noGrp="1"/>
          </p:cNvSpPr>
          <p:nvPr>
            <p:ph/>
          </p:nvPr>
        </p:nvSpPr>
        <p:spPr>
          <a:xfrm>
            <a:off x="2411280" y="1341360"/>
            <a:ext cx="3384720" cy="4780080"/>
          </a:xfrm>
          <a:prstGeom prst="rect">
            <a:avLst/>
          </a:prstGeom>
          <a:noFill/>
          <a:ln w="0">
            <a:noFill/>
          </a:ln>
        </p:spPr>
        <p:txBody>
          <a:bodyPr lIns="90000" rIns="90000" tIns="46800" bIns="46800" anchor="t">
            <a:normAutofit fontScale="96000"/>
          </a:bodyPr>
          <a:p>
            <a:pPr marL="329040" indent="-329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арл Великий (742–814) разгромил аваров и стал поощрять германскую колонизацию Восточной марки. Германские поселенцы получали привилегии: им дарились земельные наделы, которые обрабатывались рабами. Вновь расцвели города на Среднем Дунае. Правление франков в Австрии закончилось внезапно. Империю Каролингов безжалостно опустошали венгры. Этим воинственным племенам было суждено оказать прочное и глубокое влияние на жизнь средней части долины Дуная. В 907 венгры захватили Восточную марку и отсюда совершали кровавые набеги на Баварию, Швабию и Лотарингию. Оттон I, германский император и основатель Священной Римской империи (962), одержал победу над мощным венгерским войском в 955 на реке Лех близ Аугсбурга. Оттесненные на восток, венгры постепенно расселились ниже по течению в плодородной Венгерской равнине (где их потомки живут до сих пор) и приняли христианскую веру.</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p:txBody>
      </p:sp>
      <p:pic>
        <p:nvPicPr>
          <p:cNvPr id="110" name="" descr=""/>
          <p:cNvPicPr/>
          <p:nvPr/>
        </p:nvPicPr>
        <p:blipFill>
          <a:blip r:embed="rId1"/>
          <a:stretch/>
        </p:blipFill>
        <p:spPr>
          <a:xfrm>
            <a:off x="250920" y="1413000"/>
            <a:ext cx="2008080" cy="4389480"/>
          </a:xfrm>
          <a:prstGeom prst="rect">
            <a:avLst/>
          </a:prstGeom>
          <a:ln w="0">
            <a:noFill/>
          </a:ln>
        </p:spPr>
      </p:pic>
      <p:pic>
        <p:nvPicPr>
          <p:cNvPr id="111" name="" descr=""/>
          <p:cNvPicPr/>
          <p:nvPr/>
        </p:nvPicPr>
        <p:blipFill>
          <a:blip r:embed="rId2"/>
          <a:stretch/>
        </p:blipFill>
        <p:spPr>
          <a:xfrm>
            <a:off x="6156360" y="1413000"/>
            <a:ext cx="2519280" cy="432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Правление Бабенбергов </a:t>
            </a:r>
            <a:endParaRPr b="1" lang="en-US" sz="4400" spc="-1" strike="noStrike">
              <a:solidFill>
                <a:srgbClr val="e5e5ff"/>
              </a:solidFill>
              <a:latin typeface="Garamond"/>
            </a:endParaRPr>
          </a:p>
        </p:txBody>
      </p:sp>
      <p:sp>
        <p:nvSpPr>
          <p:cNvPr id="113" name="PlaceHolder 2"/>
          <p:cNvSpPr>
            <a:spLocks noGrp="1"/>
          </p:cNvSpPr>
          <p:nvPr>
            <p:ph/>
          </p:nvPr>
        </p:nvSpPr>
        <p:spPr>
          <a:xfrm>
            <a:off x="2268000" y="980640"/>
            <a:ext cx="4464360" cy="4784760"/>
          </a:xfrm>
          <a:prstGeom prst="rect">
            <a:avLst/>
          </a:prstGeom>
          <a:noFill/>
          <a:ln w="0">
            <a:noFill/>
          </a:ln>
        </p:spPr>
        <p:txBody>
          <a:bodyPr lIns="90000" rIns="90000" tIns="46800" bIns="46800" anchor="t">
            <a:normAutofit fontScale="92000"/>
          </a:bodyPr>
          <a:p>
            <a:pPr marL="315360" indent="-3153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есто изгнанных венгров заняли германские переселенцы. Баварская Восточная марка, которая охватывала в то время район вокруг Вены, была передана в 976 как ленное владение роду Бабенбергов, чьи родовые владения располагались в долине Майна в Германии. В 996 территория Восточной марки впервые была названа Остаррики. </a:t>
            </a:r>
            <a:endParaRPr b="0" lang="en-US" sz="1400" spc="-1" strike="noStrike">
              <a:solidFill>
                <a:srgbClr val="ffffff"/>
              </a:solidFill>
              <a:latin typeface="Garamond"/>
            </a:endParaRPr>
          </a:p>
          <a:p>
            <a:pPr marL="315360" indent="-3153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дним из выдающихся представителей династии Бабенбергов был макрграф Леопольд III (правил в 1095–1136). Сохранились руины его замка на горе Леопольдсберг близ Вены. Неподалеку расположен монастырь Клостернойбург и величественное цистерцианское аббатство в Хайлигенштадте, место погребения австрийских правителей. Монахи в этих монастырях возделывали поля, учили детей, составляли летописи и ухаживали за больными, в значительной мере способствуя просвещению окрестного населения. Германские поселенцы завершали освоение Восточной марки. Были усовершенствованы методы возделывания земли и выращивания винограда и основаны новые селения. Вдоль Дуная и внутри страны было построено множество замков, таких, как Дюрнштейн и Аггштейн. В период крестовых походов города процветали, и росло богатство правителей. В 1156 император присвоил титул герцога маркграфу Австрии Генриху II. Земля Штирия, к югу от Австрии, досталась Бабенбергам по наследству (1192), а части Верхней Австрии и Кротны были приобретены в 1229. </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p:txBody>
      </p:sp>
      <p:pic>
        <p:nvPicPr>
          <p:cNvPr id="114" name="" descr=""/>
          <p:cNvPicPr/>
          <p:nvPr/>
        </p:nvPicPr>
        <p:blipFill>
          <a:blip r:embed="rId1"/>
          <a:stretch/>
        </p:blipFill>
        <p:spPr>
          <a:xfrm>
            <a:off x="179280" y="1413000"/>
            <a:ext cx="2305080" cy="4002120"/>
          </a:xfrm>
          <a:prstGeom prst="rect">
            <a:avLst/>
          </a:prstGeom>
          <a:ln w="0">
            <a:noFill/>
          </a:ln>
        </p:spPr>
      </p:pic>
      <p:pic>
        <p:nvPicPr>
          <p:cNvPr id="115" name="" descr=""/>
          <p:cNvPicPr/>
          <p:nvPr/>
        </p:nvPicPr>
        <p:blipFill>
          <a:blip r:embed="rId2"/>
          <a:stretch/>
        </p:blipFill>
        <p:spPr>
          <a:xfrm>
            <a:off x="6732720" y="1197000"/>
            <a:ext cx="2195280" cy="44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48320" y="260280"/>
            <a:ext cx="4038480" cy="612144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Австрия вступила в пору расцвета в период правления герцога Леопольда VI, который умер в 1230, прославившись как беспощадный борец с еретиками и мусульманами. Щедрыми подарками осыпались монастыри; вновь созданные монашеские ордена, францисканцы и доминиканцы, были сердечно приняты в герцогстве, поощрялись стихотворцы и певцы. </a:t>
            </a:r>
            <a:br>
              <a:rPr sz="1400"/>
            </a:br>
            <a:br>
              <a:rPr sz="1400"/>
            </a:br>
            <a:r>
              <a:rPr b="0" lang="ru-RU" sz="1400" spc="-1" strike="noStrike">
                <a:solidFill>
                  <a:srgbClr val="ffffff"/>
                </a:solidFill>
                <a:latin typeface="Times New Roman"/>
              </a:rPr>
              <a:t>Вена, долгое время пребывавшая в упадке, в 1146 стала резиденцией герцога; большая польза была извлечена из развития торговли благодаря крестовым походам. В 1189 она впервые упоминается как civitas (город), в 1221 получает городские права и в 1244 их подтверждает, получив формальные городские привилегии, определявшие права и обязанности горожан, регулировавшие деятельность иностранных торговцев и предусматривавшие образование городского совета. В 1234 для жителей-евреев был издан более гуманный и просвещенный, чем в других местах, закон об их правах, который оставался в силе до изгнания евреев из Вены почти 200 лет спустя. В начале 13 в. границы города были расширены, возникли новые укрепления. </a:t>
            </a:r>
            <a:br>
              <a:rPr sz="1400"/>
            </a:br>
            <a:br>
              <a:rPr sz="1400"/>
            </a:br>
            <a:r>
              <a:rPr b="0" lang="ru-RU" sz="1400" spc="-1" strike="noStrike">
                <a:solidFill>
                  <a:srgbClr val="ffffff"/>
                </a:solidFill>
                <a:latin typeface="Times New Roman"/>
              </a:rPr>
              <a:t>Династия Бабенбергов угасла в 1246, когда герцог Фридрих II погиб в битве с венграми, не оставив наследников. Началась борьба за Австрию – важную в экономическом и стратегическом отношении территорию. </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p:txBody>
      </p:sp>
      <p:pic>
        <p:nvPicPr>
          <p:cNvPr id="117" name="" descr=""/>
          <p:cNvPicPr/>
          <p:nvPr/>
        </p:nvPicPr>
        <p:blipFill>
          <a:blip r:embed="rId1"/>
          <a:stretch/>
        </p:blipFill>
        <p:spPr>
          <a:xfrm>
            <a:off x="1187280" y="260280"/>
            <a:ext cx="2448000" cy="2881440"/>
          </a:xfrm>
          <a:prstGeom prst="rect">
            <a:avLst/>
          </a:prstGeom>
          <a:ln w="0">
            <a:noFill/>
          </a:ln>
        </p:spPr>
      </p:pic>
      <p:pic>
        <p:nvPicPr>
          <p:cNvPr id="118" name="" descr=""/>
          <p:cNvPicPr/>
          <p:nvPr/>
        </p:nvPicPr>
        <p:blipFill>
          <a:blip r:embed="rId2"/>
          <a:stretch/>
        </p:blipFill>
        <p:spPr>
          <a:xfrm>
            <a:off x="684360" y="3429000"/>
            <a:ext cx="3600360" cy="2967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Усиление австрийского государства при Габсбургах </a:t>
            </a:r>
            <a:endParaRPr b="1" lang="en-US" sz="4000" spc="-1" strike="noStrike">
              <a:solidFill>
                <a:srgbClr val="e5e5ff"/>
              </a:solidFill>
              <a:latin typeface="Garamond"/>
            </a:endParaRPr>
          </a:p>
        </p:txBody>
      </p:sp>
      <p:sp>
        <p:nvSpPr>
          <p:cNvPr id="120" name="PlaceHolder 2"/>
          <p:cNvSpPr>
            <a:spLocks noGrp="1"/>
          </p:cNvSpPr>
          <p:nvPr>
            <p:ph/>
          </p:nvPr>
        </p:nvSpPr>
        <p:spPr>
          <a:xfrm>
            <a:off x="-324360" y="2060640"/>
            <a:ext cx="9649080" cy="2768400"/>
          </a:xfrm>
          <a:prstGeom prst="rect">
            <a:avLst/>
          </a:prstGeom>
          <a:noFill/>
          <a:ln w="0">
            <a:noFill/>
          </a:ln>
        </p:spPr>
        <p:txBody>
          <a:bodyPr lIns="90000" rIns="90000" tIns="46800" bIns="46800" anchor="t">
            <a:normAutofit fontScale="77000"/>
          </a:bodyPr>
          <a:p>
            <a:pPr marL="263880" indent="-2638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апа римский передал вакантный трон герцогства маркграфу Герману Баденскому (правил в 1247–1250). Однако австрийские епископы и феодальная знать избрали герцогом чешского короля Пржемысла II (Отакара) (1230–1278), который подкрепил свои права на австрийский трон женитьбой на сестре последнего Бабенберга. Пржемысл захватил Штирию и получил по брачному контракту Каринтию и часть Крайны. Пржемысл добивался короны Священной Римской империи, но 29 сентября 1273 королем был избран граф Рудольф Габсбургский (1218–1291), уважаемый как за свое политическое благоразумие, так и за способность избегать споров с папством. Пржемысл отказался признать его избрание, поэтому Рудольф прибег к силе и разгромил соперника. В 1282 – одна из ключевых дат в австрийской истории – Рудольф объявил принадлежавшие ему земли Австрии наследственным владением дома Габсбургов.</a:t>
            </a:r>
            <a:br>
              <a:rPr sz="1400"/>
            </a:br>
            <a:br>
              <a:rPr sz="1400"/>
            </a:br>
            <a:r>
              <a:rPr b="0" lang="ru-RU" sz="1400" spc="-1" strike="noStrike">
                <a:solidFill>
                  <a:srgbClr val="ffffff"/>
                </a:solidFill>
                <a:latin typeface="Times New Roman"/>
              </a:rPr>
              <a:t>С самого начала Габсбурги считали свои земли частным владением. Несмотря на борьбу за корону Священной Римской империи и семейные раздоры, герцоги из дома Габсбургов продолжали расширять границы своих владений. Уже ранее была предпринята попытка присоединить к нему землю Форарльберг на юго-западе, но это удалось завершить только к 1523. Тироль был присоединен к владениям Габсбургов в 1363, в результате чего Австрийское герцогство вплотную придвинулось к Апеннинскому полуострову. В 1374 была присоединена часть Истрии, выходящая к северной оконечности Адриатического моря, а через 8 лет порт Триест добровольно присоединился к Австрии, чтобы освободиться от господства венецианцев. Были созданы представительные (сословные) ассамблеи, состоявшие из дворян, духовенства и горожан. </a:t>
            </a:r>
            <a:br>
              <a:rPr sz="1400"/>
            </a:br>
            <a:br>
              <a:rPr sz="1400"/>
            </a:br>
            <a:r>
              <a:rPr b="0" lang="ru-RU" sz="1400" spc="-1" strike="noStrike">
                <a:solidFill>
                  <a:srgbClr val="ffffff"/>
                </a:solidFill>
                <a:latin typeface="Times New Roman"/>
              </a:rPr>
              <a:t>Герцог Рудольф IV (правил в 1358–1365) строил планы присоединения к своим владениям королевства Чехии и Венгрии и мечтал добиться полной независимости от Священной Римской империи. Рудольф основал Венский университет (1365), финансировал расширение собора св. Стефана и поддерживал торговлю и ремесла. Он скончался скоропостижно, так и не реализовав своих честолюбивых планов. При Рудольфе IV Габсбурги стали носить титул эрцгерцогов (1359). </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p:txBody>
      </p:sp>
      <p:pic>
        <p:nvPicPr>
          <p:cNvPr id="121" name="" descr=""/>
          <p:cNvPicPr/>
          <p:nvPr/>
        </p:nvPicPr>
        <p:blipFill>
          <a:blip r:embed="rId1"/>
          <a:stretch/>
        </p:blipFill>
        <p:spPr>
          <a:xfrm>
            <a:off x="179280" y="404640"/>
            <a:ext cx="1764000" cy="148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492000" y="333000"/>
            <a:ext cx="5327640" cy="633564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 избранием герцога Альбрехта V германским королем в 1438 (под именем Альбрехта II) престиж Габсбургов достиг своего апогея. Женившись на наследнице королевского престола Чехии и Венгрии, Альбрехт приумножил владения династии. Тем не менее его власть в Чехии оставалась номинальной, и вскоре обе короны были потеряны для Габсбургов. Герцог погиб по дороге к месту битвы с турками, а в период царствования его сына Владислава владения Габсбургов значительно уменьшились. После смерти Владислава связь с Чехией и Венгрией была полностью разорвана, а сама Австрия разделена между наследниками.</a:t>
            </a:r>
            <a:br>
              <a:rPr sz="1400"/>
            </a:br>
            <a:br>
              <a:rPr sz="1400"/>
            </a:br>
            <a:r>
              <a:rPr b="0" lang="ru-RU" sz="1400" spc="-1" strike="noStrike">
                <a:solidFill>
                  <a:srgbClr val="ffffff"/>
                </a:solidFill>
                <a:latin typeface="Times New Roman"/>
              </a:rPr>
              <a:t>В 1452 дядя Альбрехта V Фридрих V (1415–1493) был коронован как император Священной Римской империи под именем Фридриха III. В 1453 он стал австрийским эрцгерцогом, и с этого времени вплоть до формальной ликвидации Священной Римской империи в 1806 (не считая короткого промежутка времени в 18 в.) Габсбурги сохраняли императорскую корону. </a:t>
            </a:r>
            <a:br>
              <a:rPr sz="1400"/>
            </a:br>
            <a:br>
              <a:rPr sz="1400"/>
            </a:br>
            <a:r>
              <a:rPr b="0" lang="ru-RU" sz="1400" spc="-1" strike="noStrike">
                <a:solidFill>
                  <a:srgbClr val="ffffff"/>
                </a:solidFill>
                <a:latin typeface="Times New Roman"/>
              </a:rPr>
              <a:t>Несмотря на бесконечные войны, а также мятежи дворян и жителей Вены, Фридриху III удалось расширить свои владения, присоединив часть Истрии и порт Риеку (1471). Фридрих верил в то, что династии Габсбургов суждено завоевать весь мир. Его девизом стала формула «AEIOU» (Alles Erdreich ist Oesterreich untertan, «Вся земля подчинена Австрии»). Эту аббревиатуру он надписывал на книгах и повелел высекать на общественных зданиях. Фридрих женил своего сына и наследника Максимилиана (1459–1519) на Марии Бургундской. В качестве приданого Габсбургам достались Нидерланды и земли на территории нынешней Франции. В этот период началось соперничество австрийских Габсбургов с французским королевством, которое продолжалось вплоть до 18 в. </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p:txBody>
      </p:sp>
      <p:pic>
        <p:nvPicPr>
          <p:cNvPr id="123" name="" descr=""/>
          <p:cNvPicPr/>
          <p:nvPr/>
        </p:nvPicPr>
        <p:blipFill>
          <a:blip r:embed="rId1"/>
          <a:stretch/>
        </p:blipFill>
        <p:spPr>
          <a:xfrm>
            <a:off x="324000" y="692280"/>
            <a:ext cx="3095640" cy="496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96720" y="0"/>
            <a:ext cx="7416720" cy="6066000"/>
          </a:xfrm>
          <a:prstGeom prst="rect">
            <a:avLst/>
          </a:prstGeom>
          <a:noFill/>
          <a:ln w="0">
            <a:noFill/>
          </a:ln>
        </p:spPr>
        <p:txBody>
          <a:bodyPr lIns="90000" rIns="90000" tIns="46800" bIns="46800" anchor="t">
            <a:normAutofit fontScale="93000"/>
          </a:bodyPr>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аксимилиан I (король в 1486, император в 1508), которого иногда считают вторым собирателем владений Габсбургов, приобрел, кроме владений в Бургундии, районы Гороиция и Градиска д'Изонцо и небольшие территории в южных частях современной Австрии. Он заключил соглашение с чешско-венгерским королем о передаче чешско-венгерской короны Максимилиану в том случае, если Владислав II умрет, не оставив наследника мужского пола. </a:t>
            </a:r>
            <a:br>
              <a:rPr sz="1400"/>
            </a:br>
            <a:br>
              <a:rPr sz="1400"/>
            </a:br>
            <a:r>
              <a:rPr b="0" lang="ru-RU" sz="1400" spc="-1" strike="noStrike">
                <a:solidFill>
                  <a:srgbClr val="ffffff"/>
                </a:solidFill>
                <a:latin typeface="Times New Roman"/>
              </a:rPr>
              <a:t>Благодаря умелым союзам, удачному наследству и выгодным бракам семья Габсбургов добилась внушительного могущества. Максимилиан нашел прекрасные партии для своего сына Филиппа и своего внука Фердинанда. Первый женился на Хуане, наследнице Испании с ее огромной империей. Владения их сына, императора Карла V, превосходили владения любого другого европейского монарха до или после него. Максимилиан договорился о женитьбе Фердинанда на наследнице Владислава, короля Чехии и Венгрии. Его брачная политика мотивировалась династическими притязаниями, но также стремлением превратить придунайскую Европу в сплоченный христианский бастион против ислама. Однако апатия народа перед лицом мусульманской угрозы осложняла выполнение этой задачи. </a:t>
            </a:r>
            <a:br>
              <a:rPr sz="1400"/>
            </a:br>
            <a:br>
              <a:rPr sz="1400"/>
            </a:br>
            <a:r>
              <a:rPr b="0" lang="ru-RU" sz="1400" spc="-1" strike="noStrike">
                <a:solidFill>
                  <a:srgbClr val="ffffff"/>
                </a:solidFill>
                <a:latin typeface="Times New Roman"/>
              </a:rPr>
              <a:t>Наряду с незначительными реформами в управлении Максимилиан поощрял нововведения в военной области, которые предвещали создание постоянной регулярной армии вместо военной аристократии воинов-рыцарей. Дорогостоящие брачные контракты, беспорядок в финансах и военные расходы опустошали государственную казну, и Максимилиан прибегал к крупным займам, главным образом у богатых магнатов Фуггеров из Аугсбурга. Взамен те получили концессии добычу полезных ископаемых в Тироле и других районах. Из того же источника брались средства на подкуп голосов выборщиков императора Священной Римской империи. Максимилиан был типичным государем эпохи Возрождения. Он покровительствовал литературе и образованию, поддерживал ученых и людей искусства, таких, как Конрад Пойтингер, гуманист из Аугсбурга и специалист по римским древностям, и немецкий художник Альбрехт Дюрер, который, в частности, иллюстрировал книги, написанные императором. Другие правители из рода Габсбургов и аристократия поощряли изящные искусства и собрали богатые коллекции картин и скульптуры, ставшие позднее гордостью Австрии. </a:t>
            </a:r>
            <a:br>
              <a:rPr sz="1400"/>
            </a:br>
            <a:br>
              <a:rPr sz="1400"/>
            </a:br>
            <a:r>
              <a:rPr b="0" lang="ru-RU" sz="1400" spc="-1" strike="noStrike">
                <a:solidFill>
                  <a:srgbClr val="ffffff"/>
                </a:solidFill>
                <a:latin typeface="Times New Roman"/>
              </a:rPr>
              <a:t>В 1519 внук Максимилиана Карл был избран королем, а в 1530 стал императором Священной Римской империи под именем Карла V. Карл правил империей, Австрией, Богемией, Нидерландами, Испанией и испанскими заморскими владениями. В 1521 он сделал своего брата, эрцгерцога Фердинанда, правителем придунайских земель Габсбургов, к которым относились собственно Австрия, Штирия, Каринтия, Крайна и Тироль.</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p:txBody>
      </p:sp>
      <p:pic>
        <p:nvPicPr>
          <p:cNvPr id="125" name="" descr=""/>
          <p:cNvPicPr/>
          <p:nvPr/>
        </p:nvPicPr>
        <p:blipFill>
          <a:blip r:embed="rId1"/>
          <a:stretch/>
        </p:blipFill>
        <p:spPr>
          <a:xfrm>
            <a:off x="6834240" y="1916280"/>
            <a:ext cx="2309760" cy="352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Присоединение Чехии и Венгрии </a:t>
            </a:r>
            <a:endParaRPr b="1" lang="en-US" sz="4000" spc="-1" strike="noStrike">
              <a:solidFill>
                <a:srgbClr val="e5e5ff"/>
              </a:solidFill>
              <a:latin typeface="Garamond"/>
            </a:endParaRPr>
          </a:p>
        </p:txBody>
      </p:sp>
      <p:sp>
        <p:nvSpPr>
          <p:cNvPr id="127" name="PlaceHolder 2"/>
          <p:cNvSpPr>
            <a:spLocks noGrp="1"/>
          </p:cNvSpPr>
          <p:nvPr>
            <p:ph/>
          </p:nvPr>
        </p:nvSpPr>
        <p:spPr>
          <a:xfrm>
            <a:off x="468360" y="1341000"/>
            <a:ext cx="8229600" cy="5257800"/>
          </a:xfrm>
          <a:prstGeom prst="rect">
            <a:avLst/>
          </a:prstGeom>
          <a:noFill/>
          <a:ln w="0">
            <a:noFill/>
          </a:ln>
        </p:spPr>
        <p:txBody>
          <a:bodyPr lIns="90000" rIns="90000" tIns="46800" bIns="46800" anchor="t">
            <a:normAutofit/>
          </a:bodyPr>
          <a:p>
            <a:pPr marL="343080" indent="-343080">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В 1526 войска Сулеймана Великолепного вторглись в Венгрию. Междоусобицы внутри правящего класса страны облегчили победу турок, и 29 августа цвет венгерской конницы был уничтожен на поле Мохача, а столица Буда капитулировала. Бежавший после разгрома у Мохача молодой король Людовик II погиб. После его смерти Чехия (с Моравией и Силезией) и Западная Венгрия отошли к Габсбургам. До той поры жители владений Габсбургов говорили почти исключительно по-немецки, если не считать населения небольших славянских анклавов. Однако после присоединения Венгрии и Чехии Дунайская держава стала весьма разнородным по составу населения государством. Это произошло как раз в то время, когда на западе Европы складывались мононациональные государства. </a:t>
            </a:r>
            <a:br>
              <a:rPr sz="1400"/>
            </a:br>
            <a:br>
              <a:rPr sz="1400"/>
            </a:br>
            <a:r>
              <a:rPr b="0" lang="ru-RU" sz="1400" spc="-1" strike="noStrike">
                <a:solidFill>
                  <a:srgbClr val="ffffff"/>
                </a:solidFill>
                <a:latin typeface="Times New Roman"/>
              </a:rPr>
              <a:t>Чехия и Венгрия обладали собственным блестящим прошлым, своими национальными святыми и героями, традициями и языками. В каждой из этих стран имелись и свои национальные сословные и провинциальные сеймы, в которых доминировали богатые магнаты и духовенство, но было гораздо меньше дворян и горожан. Королевская власть была носила скорее номинальный, нежели реальный характер. Империя Габсбургов включила в свой состав многие народы – венгров, словаков, чехов, сербов, немцев, украинцев и румын. Двор в Вене предпринял ряд мер, чтобы интегрировать Чехию и Венгрию в родовые владения Габсбургов. Центральные правительственные управления были реорганизованы таким образом, чтобы соответствовать потребностям расширившейся державы. Видную роль стали играть дворцовая канцелярия и тайный совет, которые консультировали императора главным образом по вопросам международной политики и законодательства. Были предприняты первые шаги для замены традиции избрания монархов в обеих странах наследственным правом Габсбургов. </a:t>
            </a:r>
            <a:br>
              <a:rPr sz="1400"/>
            </a:br>
            <a:r>
              <a:rPr b="0" lang="ru-RU" sz="1400" spc="-1" strike="noStrike">
                <a:solidFill>
                  <a:srgbClr val="ffffff"/>
                </a:solidFill>
                <a:latin typeface="Times New Roman"/>
              </a:rPr>
              <a:t>Сплотить Австрию, Венгрию и Чехию помогла только угроза турецкого завоевания. 200-тысячное войско Сулеймана продвигалось по широкой долине Дуная и в 1529 подошло к стенам Вены. Спустя месяц гарнизон и жители Вены вынудили турков снять осаду и отступить в Венгрию. Но войны между Австрийской и Османской империями продолжались с перерывами на протяжении жизни двух поколений; и прошло почти два столетия, пока армии Габсбургов полностью не изгнали турок из исторической Венгрии.</a:t>
            </a:r>
            <a:br>
              <a:rPr sz="1400"/>
            </a:br>
            <a:br>
              <a:rPr sz="1000"/>
            </a:br>
            <a:r>
              <a:rPr b="0" lang="ru-RU" sz="1000" spc="-1" strike="noStrike">
                <a:solidFill>
                  <a:srgbClr val="ffffff"/>
                </a:solidFill>
                <a:latin typeface="Times New Roman"/>
              </a:rPr>
              <a:t> </a:t>
            </a:r>
            <a:endParaRPr b="0" lang="en-US" sz="1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7:02:59Z</dcterms:created>
  <dc:creator>ДАША</dc:creator>
  <dc:description/>
  <dc:language>en-US</dc:language>
  <cp:lastModifiedBy>ДАША</cp:lastModifiedBy>
  <dcterms:modified xsi:type="dcterms:W3CDTF">2009-12-07T23:00:22Z</dcterms:modified>
  <cp:revision>4</cp:revision>
  <dc:subject/>
  <dc:title>История Австрии</dc:title>
</cp:coreProperties>
</file>